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COMPFX2.WAV" ContentType="audio/x-wav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B9ED-7D0B-4DFA-8A45-86A9864225B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pter 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nd their struc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i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8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peroxide is 16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 to 8 is a 2 to 1 ratio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8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peroxide is 16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to 8 is a 2 to 1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rts of Ato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J. J. Thomson - English physicist. 189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a piece of equipment  called a cathode ray tub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vacuum tube - all the air has been pumped ou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limited amount of other gases are put 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- English physicist. 18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piece of equipment  called a cathode ray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vacuum tube - all the air has been pump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amount of other gases are pu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l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many different metals and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was always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amount it bent he could find the ratio of charge to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the same with every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type of piece in every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many different metals and gas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am was always the s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the amount it bent he could find the ratio of charge to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s the same with every mate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me type of piece in every kind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m’s Mod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ound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ldn’t find positive (for a while)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id the atom was like plum puddi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bunch of positive stuff, with the electrons able to be remo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m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find positive (for a wh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d the atom was like plum pud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nch of positive stuff, with the electrons able to be 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the history of atom, but the idea of the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riginal idea Ancient Greece (400 B.C.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mocritus and Leucippus- Greek philosop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 history of atom, but the idea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idea Ancient Greece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and Leucippus- Greek philosop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 give some drops a charge by knocking of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ut an electric charge on the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ass of the drop and the charge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s, he calculated the charge on an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rnest Rutherford  English physicist. (1910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lieved the plum pudding model of the atom was correc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nted to see how big they a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radioactiv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- positively charged pieces given off by uraniu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hot them at gold foil which can be made a few atoms thic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 English physicist. (19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the plum pudding model of the atom was corr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ed to see how big the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- positively charged pieces given off by uran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t them at gold foil which can be made a few atoms th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n the alpha particles hit a florescent screen, it glow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re’s what it looked like (pg 7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lpha particles hit a florescent screen, it g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it looked like (pg 7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uresc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at b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sand - smaller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ossible pie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os - not to b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ooked at bea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of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ut sand - smaller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est possible piece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os - not to be c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 i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dense,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positive piec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at cent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deflected by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it if they get clos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noug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 explaine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dens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sitive pie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t 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eflected 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t if they get cl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n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dern View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tom is mostly empty spa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-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region where you might find an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is most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-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region where you might find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and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nce most of the particles went through, it wa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 the pieces turned so much, the positive pieces were heav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volume, big mass, big dens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is small dense positive area is 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and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most of the particles went through, it wa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pieces turned so much, the positive pieces were heav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volume, big mass, big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mall dense positive area is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ther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 - positively charged pieces 1840 times heavier than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 - no charge but the same mass as a prot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re are the piece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- positively charged pieces 1840 times heavier than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- no charge but the same mass as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 pie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nother Gree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- Famous philosoph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substances are made of 4 eleme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re - H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ir - l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rth - cool, heav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- w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lend these in different proportions to get all substanc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r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- Famous philos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of 4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 -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-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cool,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- w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 these in different proportions to get all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ubatomic partic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.11 x 10-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/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9.11 x 10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tructure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ith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ositive charg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most all the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most of the volum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egion where the electron can be fou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ll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most of the volum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ion where the electron can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ze of an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re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ed in picometers, 10-12 met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atom, 32 pm radi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 tiny compared to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adius of the nucleus is near 10-15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near 1014 g/cm3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picometers, 10-12 me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, 32 pm rad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tiny compared to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of the nucleus is near 10-15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near 1014 g/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nting the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 = 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# of protons determines kind of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same as the number of electrons in the neutral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 = the number of protons  +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the things with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on the periodic t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the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 of protons determines kind of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as the number of electrons in the neutr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= the number of protons  +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things with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 was wro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can have different numbers of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fferent mass numb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led isotop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 was wr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can have different numbers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ing 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ut the mass number after the name of the ele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- 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 -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-2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the mass number after the name of the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-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-2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 Was Righ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d not experi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reeks settled disagreements by argu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was a better debater - He w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 ideas carried through middle ag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chemists tried to change lead to gol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as R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not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settled disagreements by arg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was a better debater - He w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carried through middle 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ists tried to change lead to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91 protons and 140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91 protons and 140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78 electrons and 117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78 electrons and 117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avy is an atom of oxygen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different kinds of oxygen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re concerned with average atomic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ased on abundance of each element in natu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on’t use grams because the numbers would be too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avy is an atom of oxyg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kinds of oxygen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ncerned with average atomic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abundance of each element in n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grams because the numbers would be too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ing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nit is the Atomic Mass Unit (amu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ne twelfth the mass of a carbon-12 atom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 p+ and 6 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isotope has its own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e get the average using percent abundan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is the Atomic Mass Unit (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welfth the mass of a carbon-12 a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p+ and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isotope has its own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e average using percent abund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otal mass =     4 x 50 + 1 x 60 = 260 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 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=     4 x 50 + 1 x 60 = 26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.8 x 50 + .2 x 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% of the rocks were 5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% of the rocks were 6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=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.8 x 50 + .2 x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the rocks were 5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 of the rocks were 6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=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 not a whole number because it is an average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the decimal numbers on the periodic ta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whole number because it is an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decimal numbers on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’s Nex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te 1700’s - John Dalton- Engla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eacher- summarized results of his experiments and those of ot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ments substances that can’t be broken d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n 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bined idea of elements with that of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’s Nex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1700’s - John Dalton-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- summarized results of his experiments and those of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substances that can’t be brok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d idea of elements with that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matter is made of  tiny indivisible particles called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atter is made of  tiny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Definite Proportions (#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compound has a specific ratio of element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ratio by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always 8 grams of oxygen for each gram of hydrogen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Definite Proportions (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und has a specific ratio of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ratio by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always 8 grams of oxygen for each gram of hydro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tio of the ratios is a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Multiple Propor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atio of the ratios is a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A65-F8D1-43B9-8F0C-E858B00C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E3D-0929-45C5-A1A6-0CA34999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20E-5053-4337-9D19-97DA833B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797-79FC-4E0F-8B95-2731EA32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3D9-D72C-45DA-B28F-9AC0E272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B3B-28C2-4505-872E-AED9DA9B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575-C72F-471D-B153-B6AF06A9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22E9-C3A8-4D70-A44E-FA789B63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5CB-B1BA-4CD9-A779-9CF57C41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5A62-C50B-4574-B67C-0C5087A2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0F3-013B-4BBE-829C-2CDCA05A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8DB3-0A11-4B6A-A19C-F517007C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40F7-91E7-4BD7-8A7F-3A6B2B615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Freeform 5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OMPFX2.WAV"/><Relationship Id="rId3" Type="http://schemas.openxmlformats.org/officeDocument/2006/relationships/audio" Target="../media/COMPFX2.WAV"/><Relationship Id="rId4" Type="http://schemas.openxmlformats.org/officeDocument/2006/relationships/audio" Target="../media/COMPFX2.WAV"/><Relationship Id="rId5" Type="http://schemas.openxmlformats.org/officeDocument/2006/relationships/audio" Target="../media/COMPFX2.WAV"/><Relationship Id="rId6" Type="http://schemas.openxmlformats.org/officeDocument/2006/relationships/audio" Target="../media/COMPFX2.WAV"/><Relationship Id="rId7" Type="http://schemas.openxmlformats.org/officeDocument/2006/relationships/audio" Target="../media/COMPFX2.WAV"/><Relationship Id="rId8" Type="http://schemas.openxmlformats.org/officeDocument/2006/relationships/audio" Target="../media/COMPFX2.WAV"/><Relationship Id="rId9" Type="http://schemas.openxmlformats.org/officeDocument/2006/relationships/audio" Target="../media/COMPFX2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951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5028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nd their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124080" y="1704960"/>
            <a:ext cx="3124440" cy="32068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" dur="1" fill="hold"/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eroxide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to 8 is a 2 to 1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because you have to add a whole atom, you can’t add a piec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7" dur="1" fill="hold"/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rts of A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. J. Thomson - English physicist. 18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a piece of equipment  called a cathode ray tu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vacuum tube - all the air has been pump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mited amount of other gases are pu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2" dur="1" fill="hold"/>
                                  <p:tgtEl>
                                    <p:spTgt spid="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92" name="Group 13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93" name="AutoShape 3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Oval 4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5" name="Group 7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96" name="Line 5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rc 6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10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99" name="Line 8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rc 9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Line 11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Oval 12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" name="Rectangle 14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Rectangle 17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3410280" y="5526000"/>
            <a:ext cx="2254680" cy="579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 flipH="1" flipV="1">
            <a:off x="1981080" y="3809880"/>
            <a:ext cx="1371600" cy="1905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23"/>
          <p:cNvSpPr/>
          <p:nvPr/>
        </p:nvSpPr>
        <p:spPr>
          <a:xfrm flipV="1">
            <a:off x="5715000" y="3733560"/>
            <a:ext cx="1371600" cy="1981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14" name="Group 14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15" name="AutoShape 4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Oval 5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" name="Group 8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18" name="Line 6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rc 7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21" name="Line 9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rc 10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Line 12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13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Rectangle 15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Rectangle 26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1905120" y="3048120"/>
            <a:ext cx="5333760" cy="91440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32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33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5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36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39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6400800" y="2857680"/>
            <a:ext cx="685800" cy="11808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39"/>
          <p:cNvSpPr/>
          <p:nvPr/>
        </p:nvSpPr>
        <p:spPr>
          <a:xfrm>
            <a:off x="4324320" y="2838600"/>
            <a:ext cx="2990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41"/>
          <p:cNvSpPr/>
          <p:nvPr/>
        </p:nvSpPr>
        <p:spPr>
          <a:xfrm>
            <a:off x="1905120" y="2849400"/>
            <a:ext cx="5252760" cy="1122480"/>
          </a:xfrm>
          <a:custGeom>
            <a:avLst/>
            <a:gdLst/>
            <a:ahLst/>
            <a:rect l="l" t="t" r="r" b="b"/>
            <a:pathLst>
              <a:path w="3309" h="707">
                <a:moveTo>
                  <a:pt x="0" y="125"/>
                </a:moveTo>
                <a:cubicBezTo>
                  <a:pt x="0" y="125"/>
                  <a:pt x="0" y="413"/>
                  <a:pt x="0" y="701"/>
                </a:cubicBezTo>
                <a:cubicBezTo>
                  <a:pt x="207" y="695"/>
                  <a:pt x="585" y="707"/>
                  <a:pt x="849" y="704"/>
                </a:cubicBezTo>
                <a:cubicBezTo>
                  <a:pt x="1097" y="671"/>
                  <a:pt x="1568" y="625"/>
                  <a:pt x="1978" y="509"/>
                </a:cubicBezTo>
                <a:cubicBezTo>
                  <a:pt x="2388" y="393"/>
                  <a:pt x="3118" y="91"/>
                  <a:pt x="3309" y="8"/>
                </a:cubicBezTo>
                <a:cubicBezTo>
                  <a:pt x="3096" y="17"/>
                  <a:pt x="3193" y="13"/>
                  <a:pt x="3123" y="14"/>
                </a:cubicBezTo>
                <a:lnTo>
                  <a:pt x="2275" y="0"/>
                </a:lnTo>
                <a:cubicBezTo>
                  <a:pt x="2016" y="15"/>
                  <a:pt x="1800" y="83"/>
                  <a:pt x="1566" y="104"/>
                </a:cubicBezTo>
                <a:cubicBezTo>
                  <a:pt x="1290" y="123"/>
                  <a:pt x="1131" y="121"/>
                  <a:pt x="870" y="125"/>
                </a:cubicBezTo>
                <a:cubicBezTo>
                  <a:pt x="609" y="129"/>
                  <a:pt x="181" y="125"/>
                  <a:pt x="0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56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57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60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63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9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40"/>
          <p:cNvSpPr/>
          <p:nvPr/>
        </p:nvSpPr>
        <p:spPr>
          <a:xfrm>
            <a:off x="1558800" y="2849400"/>
            <a:ext cx="5599080" cy="1117800"/>
          </a:xfrm>
          <a:custGeom>
            <a:avLst/>
            <a:gdLst/>
            <a:ahLst/>
            <a:rect l="l" t="t" r="r" b="b"/>
            <a:pathLst>
              <a:path w="3527" h="704">
                <a:moveTo>
                  <a:pt x="218" y="125"/>
                </a:moveTo>
                <a:cubicBezTo>
                  <a:pt x="218" y="125"/>
                  <a:pt x="0" y="605"/>
                  <a:pt x="218" y="701"/>
                </a:cubicBezTo>
                <a:cubicBezTo>
                  <a:pt x="425" y="695"/>
                  <a:pt x="1260" y="704"/>
                  <a:pt x="1524" y="701"/>
                </a:cubicBezTo>
                <a:cubicBezTo>
                  <a:pt x="1772" y="668"/>
                  <a:pt x="1862" y="624"/>
                  <a:pt x="2196" y="509"/>
                </a:cubicBezTo>
                <a:cubicBezTo>
                  <a:pt x="2530" y="394"/>
                  <a:pt x="3336" y="91"/>
                  <a:pt x="3527" y="8"/>
                </a:cubicBezTo>
                <a:cubicBezTo>
                  <a:pt x="3314" y="17"/>
                  <a:pt x="3411" y="13"/>
                  <a:pt x="3341" y="14"/>
                </a:cubicBezTo>
                <a:lnTo>
                  <a:pt x="2493" y="0"/>
                </a:lnTo>
                <a:cubicBezTo>
                  <a:pt x="2234" y="15"/>
                  <a:pt x="2018" y="83"/>
                  <a:pt x="1784" y="104"/>
                </a:cubicBezTo>
                <a:cubicBezTo>
                  <a:pt x="1508" y="123"/>
                  <a:pt x="1349" y="121"/>
                  <a:pt x="1088" y="125"/>
                </a:cubicBezTo>
                <a:cubicBezTo>
                  <a:pt x="827" y="129"/>
                  <a:pt x="399" y="125"/>
                  <a:pt x="218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many different metals and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m was always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amount it bent he could find the ratio of charge to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same with every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type of piece in every kind of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m’s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n’t find positive (for a whi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id the atom was like plum pud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unch of positive stuff, with the electrons able to be rem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4807080" y="2063880"/>
            <a:ext cx="3187440" cy="318744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5721480" y="2597040"/>
            <a:ext cx="44424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5791320" y="281952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7016760" y="37400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086600" y="39625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5334120" y="411480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6788160" y="27496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6858000" y="29718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6330960" y="45021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6400800" y="47242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197" name="Text Box 4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6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00" name="Text Box 7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9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03" name="Text Box 10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Rectangle 12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14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15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18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19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22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23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26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27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28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1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32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33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reeform 34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35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43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44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5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46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47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Freeform 48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reeform 49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Freeform 50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Freeform 51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50" y="0"/>
                </a:ln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reeform 52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4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55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Freeform 56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58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61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2"/>
          <p:cNvSpPr/>
          <p:nvPr/>
        </p:nvSpPr>
        <p:spPr>
          <a:xfrm>
            <a:off x="7265880" y="3855960"/>
            <a:ext cx="5724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Freeform 64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65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66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Freeform 67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Freeform 68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69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70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Freeform 71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Group 72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66" name="Text Box 73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Group 75"/>
          <p:cNvGrpSpPr/>
          <p:nvPr/>
        </p:nvGrpSpPr>
        <p:grpSpPr>
          <a:xfrm>
            <a:off x="4572000" y="3352680"/>
            <a:ext cx="2590920" cy="2867400"/>
            <a:chOff x="4572000" y="3352680"/>
            <a:chExt cx="2590920" cy="2867400"/>
          </a:xfrm>
        </p:grpSpPr>
        <p:sp>
          <p:nvSpPr>
            <p:cNvPr id="269" name="Text Box 76"/>
            <p:cNvSpPr/>
            <p:nvPr/>
          </p:nvSpPr>
          <p:spPr>
            <a:xfrm>
              <a:off x="4800600" y="563868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etal Plat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77"/>
            <p:cNvSpPr/>
            <p:nvPr/>
          </p:nvSpPr>
          <p:spPr>
            <a:xfrm flipH="1" flipV="1">
              <a:off x="4572000" y="4647960"/>
              <a:ext cx="914400" cy="9903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H="1" flipV="1">
              <a:off x="5029200" y="3352680"/>
              <a:ext cx="838080" cy="22860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75" name="Text Box 4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5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Group 6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278" name="Text Box 7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8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Group 9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81" name="Text Box 10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11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84" name="Text Box 13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Rectangle 15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Freeform 17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Freeform 18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20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Freeform 21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22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4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25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reeform 26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28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29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reeform 30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Freeform 31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33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4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5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Freeform 36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Freeform 37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8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39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40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41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2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44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46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47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9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reeform 50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51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52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54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55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56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58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61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62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63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64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65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66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67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68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69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70"/>
          <p:cNvSpPr/>
          <p:nvPr/>
        </p:nvSpPr>
        <p:spPr>
          <a:xfrm>
            <a:off x="5407200" y="285444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71"/>
          <p:cNvSpPr/>
          <p:nvPr/>
        </p:nvSpPr>
        <p:spPr>
          <a:xfrm>
            <a:off x="5297400" y="2944800"/>
            <a:ext cx="30240" cy="33480"/>
          </a:xfrm>
          <a:custGeom>
            <a:avLst/>
            <a:gdLst/>
            <a:ahLst/>
            <a:rect l="l" t="t" r="r" b="b"/>
            <a:pathLst>
              <a:path w="19" h="21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4"/>
                </a:lnTo>
                <a:lnTo>
                  <a:pt x="17" y="4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72"/>
          <p:cNvSpPr/>
          <p:nvPr/>
        </p:nvSpPr>
        <p:spPr>
          <a:xfrm>
            <a:off x="531648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11"/>
                </a:lnTo>
                <a:lnTo>
                  <a:pt x="17" y="14"/>
                </a:lnTo>
                <a:lnTo>
                  <a:pt x="14" y="14"/>
                </a:lnTo>
                <a:lnTo>
                  <a:pt x="14" y="16"/>
                </a:lnTo>
                <a:lnTo>
                  <a:pt x="12" y="16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6"/>
                </a:lnTo>
                <a:lnTo>
                  <a:pt x="2" y="16"/>
                </a:lnTo>
                <a:lnTo>
                  <a:pt x="0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73"/>
          <p:cNvSpPr/>
          <p:nvPr/>
        </p:nvSpPr>
        <p:spPr>
          <a:xfrm>
            <a:off x="5475240" y="29066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74"/>
          <p:cNvSpPr/>
          <p:nvPr/>
        </p:nvSpPr>
        <p:spPr>
          <a:xfrm>
            <a:off x="4932360" y="3041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75"/>
          <p:cNvSpPr/>
          <p:nvPr/>
        </p:nvSpPr>
        <p:spPr>
          <a:xfrm>
            <a:off x="4932360" y="28544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76"/>
          <p:cNvSpPr/>
          <p:nvPr/>
        </p:nvSpPr>
        <p:spPr>
          <a:xfrm>
            <a:off x="5094360" y="2779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4" y="14"/>
                </a:lnTo>
                <a:lnTo>
                  <a:pt x="14" y="14"/>
                </a:lnTo>
                <a:lnTo>
                  <a:pt x="12" y="16"/>
                </a:lnTo>
                <a:lnTo>
                  <a:pt x="12" y="16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2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77"/>
          <p:cNvSpPr/>
          <p:nvPr/>
        </p:nvSpPr>
        <p:spPr>
          <a:xfrm>
            <a:off x="5086440" y="3135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78"/>
          <p:cNvSpPr/>
          <p:nvPr/>
        </p:nvSpPr>
        <p:spPr>
          <a:xfrm>
            <a:off x="4556160" y="3022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7"/>
                </a:lnTo>
                <a:lnTo>
                  <a:pt x="3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79"/>
          <p:cNvSpPr/>
          <p:nvPr/>
        </p:nvSpPr>
        <p:spPr>
          <a:xfrm>
            <a:off x="4229280" y="2763720"/>
            <a:ext cx="2664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80"/>
          <p:cNvSpPr/>
          <p:nvPr/>
        </p:nvSpPr>
        <p:spPr>
          <a:xfrm>
            <a:off x="4424400" y="27939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reeform 81"/>
          <p:cNvSpPr/>
          <p:nvPr/>
        </p:nvSpPr>
        <p:spPr>
          <a:xfrm>
            <a:off x="4692600" y="277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7"/>
                </a:lnTo>
                <a:lnTo>
                  <a:pt x="19" y="9"/>
                </a:lnTo>
                <a:lnTo>
                  <a:pt x="16" y="9"/>
                </a:lnTo>
                <a:lnTo>
                  <a:pt x="16" y="12"/>
                </a:lnTo>
                <a:lnTo>
                  <a:pt x="16" y="14"/>
                </a:lnTo>
                <a:lnTo>
                  <a:pt x="14" y="14"/>
                </a:lnTo>
                <a:lnTo>
                  <a:pt x="14" y="16"/>
                </a:lnTo>
                <a:lnTo>
                  <a:pt x="11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reeform 82"/>
          <p:cNvSpPr/>
          <p:nvPr/>
        </p:nvSpPr>
        <p:spPr>
          <a:xfrm>
            <a:off x="3855960" y="28432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reeform 83"/>
          <p:cNvSpPr/>
          <p:nvPr/>
        </p:nvSpPr>
        <p:spPr>
          <a:xfrm>
            <a:off x="3529080" y="30304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5" y="2"/>
                </a:lnTo>
                <a:lnTo>
                  <a:pt x="5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Freeform 84"/>
          <p:cNvSpPr/>
          <p:nvPr/>
        </p:nvSpPr>
        <p:spPr>
          <a:xfrm>
            <a:off x="3886200" y="327672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Freeform 85"/>
          <p:cNvSpPr/>
          <p:nvPr/>
        </p:nvSpPr>
        <p:spPr>
          <a:xfrm>
            <a:off x="4454640" y="3184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reeform 86"/>
          <p:cNvSpPr/>
          <p:nvPr/>
        </p:nvSpPr>
        <p:spPr>
          <a:xfrm>
            <a:off x="4160880" y="2933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reeform 87"/>
          <p:cNvSpPr/>
          <p:nvPr/>
        </p:nvSpPr>
        <p:spPr>
          <a:xfrm>
            <a:off x="3908520" y="3068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88"/>
          <p:cNvSpPr/>
          <p:nvPr/>
        </p:nvSpPr>
        <p:spPr>
          <a:xfrm>
            <a:off x="4154400" y="31320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2"/>
                </a:lnTo>
                <a:lnTo>
                  <a:pt x="16" y="5"/>
                </a:lnTo>
                <a:lnTo>
                  <a:pt x="19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2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6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4" y="2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89"/>
          <p:cNvSpPr/>
          <p:nvPr/>
        </p:nvSpPr>
        <p:spPr>
          <a:xfrm>
            <a:off x="4259160" y="3274920"/>
            <a:ext cx="27000" cy="33480"/>
          </a:xfrm>
          <a:custGeom>
            <a:avLst/>
            <a:gdLst/>
            <a:ahLst/>
            <a:rect l="l" t="t" r="r" b="b"/>
            <a:pathLst>
              <a:path w="17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90"/>
          <p:cNvSpPr/>
          <p:nvPr/>
        </p:nvSpPr>
        <p:spPr>
          <a:xfrm>
            <a:off x="5014800" y="2925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5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9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reeform 91"/>
          <p:cNvSpPr/>
          <p:nvPr/>
        </p:nvSpPr>
        <p:spPr>
          <a:xfrm>
            <a:off x="5124600" y="303840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9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reeform 92"/>
          <p:cNvSpPr/>
          <p:nvPr/>
        </p:nvSpPr>
        <p:spPr>
          <a:xfrm>
            <a:off x="4627440" y="31240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93"/>
          <p:cNvSpPr/>
          <p:nvPr/>
        </p:nvSpPr>
        <p:spPr>
          <a:xfrm>
            <a:off x="518148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6"/>
                </a:lnTo>
                <a:lnTo>
                  <a:pt x="2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94"/>
          <p:cNvSpPr/>
          <p:nvPr/>
        </p:nvSpPr>
        <p:spPr>
          <a:xfrm>
            <a:off x="4419720" y="411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reeform 95"/>
          <p:cNvSpPr/>
          <p:nvPr/>
        </p:nvSpPr>
        <p:spPr>
          <a:xfrm>
            <a:off x="4495680" y="44956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96"/>
          <p:cNvSpPr/>
          <p:nvPr/>
        </p:nvSpPr>
        <p:spPr>
          <a:xfrm>
            <a:off x="7543800" y="2487600"/>
            <a:ext cx="1376280" cy="712800"/>
          </a:xfrm>
          <a:custGeom>
            <a:avLst/>
            <a:gdLst/>
            <a:ahLst/>
            <a:rect l="l" t="t" r="r" b="b"/>
            <a:pathLst>
              <a:path w="867" h="449">
                <a:moveTo>
                  <a:pt x="0" y="213"/>
                </a:moveTo>
                <a:lnTo>
                  <a:pt x="144" y="213"/>
                </a:lnTo>
                <a:cubicBezTo>
                  <a:pt x="201" y="187"/>
                  <a:pt x="255" y="86"/>
                  <a:pt x="345" y="57"/>
                </a:cubicBezTo>
                <a:cubicBezTo>
                  <a:pt x="433" y="17"/>
                  <a:pt x="588" y="0"/>
                  <a:pt x="687" y="36"/>
                </a:cubicBezTo>
                <a:cubicBezTo>
                  <a:pt x="786" y="72"/>
                  <a:pt x="867" y="125"/>
                  <a:pt x="867" y="219"/>
                </a:cubicBezTo>
                <a:cubicBezTo>
                  <a:pt x="867" y="313"/>
                  <a:pt x="775" y="385"/>
                  <a:pt x="687" y="417"/>
                </a:cubicBezTo>
                <a:cubicBezTo>
                  <a:pt x="599" y="449"/>
                  <a:pt x="482" y="444"/>
                  <a:pt x="402" y="420"/>
                </a:cubicBezTo>
                <a:cubicBezTo>
                  <a:pt x="322" y="396"/>
                  <a:pt x="208" y="328"/>
                  <a:pt x="141" y="309"/>
                </a:cubicBezTo>
                <a:lnTo>
                  <a:pt x="0" y="309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97"/>
          <p:cNvSpPr/>
          <p:nvPr/>
        </p:nvSpPr>
        <p:spPr>
          <a:xfrm>
            <a:off x="7543800" y="2548080"/>
            <a:ext cx="1386000" cy="599760"/>
          </a:xfrm>
          <a:custGeom>
            <a:avLst/>
            <a:gdLst/>
            <a:ahLst/>
            <a:rect l="l" t="t" r="r" b="b"/>
            <a:pathLst>
              <a:path w="873" h="378">
                <a:moveTo>
                  <a:pt x="0" y="174"/>
                </a:moveTo>
                <a:lnTo>
                  <a:pt x="144" y="174"/>
                </a:lnTo>
                <a:cubicBezTo>
                  <a:pt x="206" y="152"/>
                  <a:pt x="282" y="65"/>
                  <a:pt x="372" y="39"/>
                </a:cubicBezTo>
                <a:cubicBezTo>
                  <a:pt x="504" y="51"/>
                  <a:pt x="591" y="36"/>
                  <a:pt x="687" y="18"/>
                </a:cubicBezTo>
                <a:cubicBezTo>
                  <a:pt x="783" y="0"/>
                  <a:pt x="873" y="99"/>
                  <a:pt x="867" y="180"/>
                </a:cubicBezTo>
                <a:cubicBezTo>
                  <a:pt x="861" y="261"/>
                  <a:pt x="771" y="348"/>
                  <a:pt x="675" y="342"/>
                </a:cubicBezTo>
                <a:cubicBezTo>
                  <a:pt x="579" y="336"/>
                  <a:pt x="501" y="318"/>
                  <a:pt x="402" y="348"/>
                </a:cubicBezTo>
                <a:cubicBezTo>
                  <a:pt x="303" y="378"/>
                  <a:pt x="208" y="289"/>
                  <a:pt x="141" y="270"/>
                </a:cubicBezTo>
                <a:lnTo>
                  <a:pt x="0" y="270"/>
                </a:lnTo>
                <a:lnTo>
                  <a:pt x="0" y="17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98"/>
          <p:cNvSpPr/>
          <p:nvPr/>
        </p:nvSpPr>
        <p:spPr>
          <a:xfrm>
            <a:off x="7534440" y="2619360"/>
            <a:ext cx="1376280" cy="500040"/>
          </a:xfrm>
          <a:custGeom>
            <a:avLst/>
            <a:gdLst/>
            <a:ahLst/>
            <a:rect l="l" t="t" r="r" b="b"/>
            <a:pathLst>
              <a:path w="867" h="315">
                <a:moveTo>
                  <a:pt x="0" y="129"/>
                </a:moveTo>
                <a:lnTo>
                  <a:pt x="144" y="129"/>
                </a:lnTo>
                <a:cubicBezTo>
                  <a:pt x="207" y="119"/>
                  <a:pt x="296" y="75"/>
                  <a:pt x="381" y="66"/>
                </a:cubicBezTo>
                <a:cubicBezTo>
                  <a:pt x="516" y="126"/>
                  <a:pt x="573" y="156"/>
                  <a:pt x="654" y="78"/>
                </a:cubicBezTo>
                <a:cubicBezTo>
                  <a:pt x="735" y="0"/>
                  <a:pt x="867" y="80"/>
                  <a:pt x="867" y="174"/>
                </a:cubicBezTo>
                <a:cubicBezTo>
                  <a:pt x="867" y="268"/>
                  <a:pt x="813" y="315"/>
                  <a:pt x="705" y="291"/>
                </a:cubicBezTo>
                <a:cubicBezTo>
                  <a:pt x="597" y="267"/>
                  <a:pt x="495" y="225"/>
                  <a:pt x="408" y="300"/>
                </a:cubicBezTo>
                <a:cubicBezTo>
                  <a:pt x="315" y="297"/>
                  <a:pt x="208" y="244"/>
                  <a:pt x="141" y="225"/>
                </a:cubicBezTo>
                <a:lnTo>
                  <a:pt x="0" y="225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99"/>
          <p:cNvSpPr/>
          <p:nvPr/>
        </p:nvSpPr>
        <p:spPr>
          <a:xfrm>
            <a:off x="7539120" y="2552760"/>
            <a:ext cx="1380960" cy="652320"/>
          </a:xfrm>
          <a:custGeom>
            <a:avLst/>
            <a:gdLst/>
            <a:ahLst/>
            <a:rect l="l" t="t" r="r" b="b"/>
            <a:pathLst>
              <a:path w="870" h="411">
                <a:moveTo>
                  <a:pt x="0" y="171"/>
                </a:moveTo>
                <a:lnTo>
                  <a:pt x="144" y="171"/>
                </a:lnTo>
                <a:cubicBezTo>
                  <a:pt x="211" y="153"/>
                  <a:pt x="270" y="0"/>
                  <a:pt x="405" y="60"/>
                </a:cubicBezTo>
                <a:cubicBezTo>
                  <a:pt x="540" y="120"/>
                  <a:pt x="585" y="132"/>
                  <a:pt x="669" y="69"/>
                </a:cubicBezTo>
                <a:cubicBezTo>
                  <a:pt x="753" y="6"/>
                  <a:pt x="870" y="93"/>
                  <a:pt x="867" y="177"/>
                </a:cubicBezTo>
                <a:cubicBezTo>
                  <a:pt x="864" y="261"/>
                  <a:pt x="807" y="360"/>
                  <a:pt x="687" y="375"/>
                </a:cubicBezTo>
                <a:cubicBezTo>
                  <a:pt x="573" y="306"/>
                  <a:pt x="501" y="273"/>
                  <a:pt x="408" y="342"/>
                </a:cubicBezTo>
                <a:cubicBezTo>
                  <a:pt x="315" y="411"/>
                  <a:pt x="208" y="286"/>
                  <a:pt x="141" y="267"/>
                </a:cubicBezTo>
                <a:lnTo>
                  <a:pt x="0" y="267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100"/>
          <p:cNvGrpSpPr/>
          <p:nvPr/>
        </p:nvGrpSpPr>
        <p:grpSpPr>
          <a:xfrm>
            <a:off x="608760" y="2133720"/>
            <a:ext cx="3125160" cy="685800"/>
            <a:chOff x="608760" y="2133720"/>
            <a:chExt cx="3125160" cy="685800"/>
          </a:xfrm>
        </p:grpSpPr>
        <p:sp>
          <p:nvSpPr>
            <p:cNvPr id="372" name="Text Box 101"/>
            <p:cNvSpPr/>
            <p:nvPr/>
          </p:nvSpPr>
          <p:spPr>
            <a:xfrm>
              <a:off x="608760" y="2133720"/>
              <a:ext cx="211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 droplet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102"/>
            <p:cNvSpPr/>
            <p:nvPr/>
          </p:nvSpPr>
          <p:spPr>
            <a:xfrm>
              <a:off x="2590920" y="2590920"/>
              <a:ext cx="114300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Freeform 103"/>
          <p:cNvSpPr/>
          <p:nvPr/>
        </p:nvSpPr>
        <p:spPr>
          <a:xfrm>
            <a:off x="7010280" y="3962520"/>
            <a:ext cx="563760" cy="18252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7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0371 C 0.00677 -0.0044 0.00886 -0.00487 -0.00086 -0.00093 C -0.01059 0.00301 -0.03854 0.01111 -0.05399 0.02037 C -0.06944 0.02963 -0.08732 0.04884 -0.09392 0.05463 E">
                                      <p:cBhvr>
                                        <p:cTn id="582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3333 C 0.03316 -0.0287 0.01927 -0.02407 0.01146 -0.01852 C 0.00364 -0.01296 0.00191 -0.00301 1.66667E-006 -1.11111E-006 E">
                                      <p:cBhvr>
                                        <p:cTn id="584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84 -0.02037 C 0.18802 -0.03472 0.1592 -0.04907 0.12309 -0.04583 C 0.08698 -0.04259 0.02031 -0.00833 -0.00018 -0.00092 E">
                                      <p:cBhvr>
                                        <p:cTn id="586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58 0.01273 C 0.09341 0.00301 0.06841 -0.00671 0.04879 -0.00903 C 0.02917 -0.01134 0.00938 -0.00208 0.00087 -0.00069 C -0.00764 0.0007 -0.00503 0.00023 -0.00225 -0.00023 E">
                                      <p:cBhvr>
                                        <p:cTn id="588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98 -0.05579 C 0.10764 -0.06018 0.07847 -0.06458 0.05573 -0.05532 C 0.03298 -0.04606 0.00972 -0.00926 0.00052 -0.00023 E">
                                      <p:cBhvr>
                                        <p:cTn id="590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06 -0.02083 C 0.03282 -0.0213 0.02275 -0.02153 0.01563 -0.01806 C 0.00851 -0.01458 0.00261 -0.00324 -4.72222E-006 3.7037E-007 E">
                                      <p:cBhvr>
                                        <p:cTn id="592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535 -0.05579 C 0.15191 -0.06551 0.12969 -0.07593 0.09931 -0.06598 C 0.06893 -0.05602 0.01111 -0.00811 -0.00659 0.00347 E">
                                      <p:cBhvr>
                                        <p:cTn id="594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92 -0.03241 C 0.07084 -0.03426 0.04375 -0.03588 0.02743 -0.03056 C 0.01111 -0.02524 0.00452 -0.0051 -2.77778E-006 3.33333E-006 E">
                                      <p:cBhvr>
                                        <p:cTn id="596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414 -0.02547 C 0.13698 -0.03426 0.09983 -0.04306 0.07101 -0.03889 C 0.04219 -0.03473 0.02153 -0.01783 0.00087 -0.00093 E">
                                      <p:cBhvr>
                                        <p:cTn id="598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4 -0.04237 C 0.08733 -0.04908 0.06059 -0.05579 0.04167 -0.04885 C 0.02274 -0.0419 0.01146 -0.0213 0.00035 -0.0007 E">
                                      <p:cBhvr>
                                        <p:cTn id="600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61 -0.03658 C 0.11528 -0.04491 0.08212 -0.05324 0.05729 -0.04723 C 0.03247 -0.04121 0.00955 -0.00834 -2.77778E-006 -0.00047 E">
                                      <p:cBhvr>
                                        <p:cTn id="602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5 -0.02083 C 0.04653 -0.02569 0.02969 -0.03032 0.0191 -0.02685 C 0.00851 -0.02338 0.00417 -0.0118 5.55556E-006 3.7037E-007 E">
                                      <p:cBhvr>
                                        <p:cTn id="604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6 -0.00718 C 0.01459 -0.0088 0.00452 -0.01042 -0.00139 -0.00995 C -0.00729 -0.00949 -0.00885 -0.00695 -0.01041 -0.0044 E">
                                      <p:cBhvr>
                                        <p:cTn id="606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37 C 0.0059 0.00208 0.00191 0.00069 4.72222E-006 1.48148E-006 E">
                                      <p:cBhvr>
                                        <p:cTn id="608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2 -3.33333E-006 C 0.03195 -0.00463 0.01199 -0.00903 0.00157 -0.00926 C -0.00886 -0.00949 -0.00954 -0.00579 -0.01024 -0.00185 E">
                                      <p:cBhvr>
                                        <p:cTn id="610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24 -0.02453 C 0.0658 -0.03611 0.03855 -0.04768 0.02136 -0.04444 C 0.00417 -0.0412 -0.00277 -0.02337 -0.00954 -0.00555 E">
                                      <p:cBhvr>
                                        <p:cTn id="612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13 0.01087 C 0.0533 -0.00186 0.02865 -0.01436 0.01389 -0.01737 C -0.000869999999999999 -0.02038 -0.00573 -0.01389 -0.01041 -0.00718 E">
                                      <p:cBhvr>
                                        <p:cTn id="61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1 1.85185E-006 C 0.04479 -0.00649 0.03767 -0.01297 0.03038 -0.01575 C 0.02309 -0.01852 0.01545 -0.0176 0.00781 -0.01667 E">
                                      <p:cBhvr>
                                        <p:cTn id="616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89 -0.01041 C 0.02813 -0.0155 0.01354 -0.0206 0.00469 -0.01967 C -0.00416 -0.01875 -0.00746 -0.0118 -0.01059 -0.00486 E">
                                      <p:cBhvr>
                                        <p:cTn id="618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62 0.00162 C 0.13473 -0.0132 0.09983 -0.02778 0.06962 -0.02894 C 0.03942 -0.03009 0.01372 -0.01783 -0.01197 -0.00533 E">
                                      <p:cBhvr>
                                        <p:cTn id="620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38 0.01088 C 0.02292 0.00324 0.01146 -0.0044 0.00382 -0.00718 C -0.00382 -0.00996 -0.00746 -0.00764 -0.01111 -0.00533 E">
                                      <p:cBhvr>
                                        <p:cTn id="622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 0.0132 C 0.09167 -0.00439 0.05434 -0.02198 0.03073 -0.02522 C 0.00712 -0.02847 -0.00278 -0.01735 -0.01267 -0.00624 E">
                                      <p:cBhvr>
                                        <p:cTn id="624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28 -0.01157 C 0.10625 -0.02153 0.07639 -0.03125 0.05191 -0.03009 C 0.02743 -0.02894 0.00816 -0.0169 -0.01094 -0.00463 E">
                                      <p:cBhvr>
                                        <p:cTn id="626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1343 C 0.00712 -0.01459 0.00226 -0.01551 -0.00156 -0.01389 C -0.00538 -0.01227 -0.00833 -0.00834 -0.01128 -0.00417 E">
                                      <p:cBhvr>
                                        <p:cTn id="628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047 C 0.00486 -0.00301 -0.00017 -0.00648 -0.00399 -0.00717 C -0.00781 -0.00787 -0.01024 -0.00625 -0.0125 -0.00439 E">
                                      <p:cBhvr>
                                        <p:cTn id="630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27 -0.17801 C 0.1033 -0.17245 0.04358 -0.1743 0.02344 -0.14514 C 0.0033 -0.11597 0.00382 -0.03217 -0.00139 -0.00254 E">
                                      <p:cBhvr>
                                        <p:cTn id="632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41 -0.23495 C 0.09427 -0.22315 0.03246 -0.2037 0.01406 -0.16458 C -0.00434 -0.12546 0.00312 -0.03472 0.00034 -0.0007 E">
                                      <p:cBhvr>
                                        <p:cTn id="634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the history of atom, but the idea of the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 idea Ancient Greece (400 B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itus and Leucippus- Greek philosop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Freeform 5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Freeform 6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Freeform 9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Freeform 10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Freeform 13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Freeform 14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reeform 17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8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Freeform 19"/>
          <p:cNvSpPr/>
          <p:nvPr/>
        </p:nvSpPr>
        <p:spPr>
          <a:xfrm>
            <a:off x="4294080" y="388296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22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23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Freeform 24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reeform 25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6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27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8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29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0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1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32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33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34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35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36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37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Freeform 38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Freeform 39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40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415" name="Freeform 41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42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43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Rectangle 44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5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Freeform 46"/>
          <p:cNvSpPr/>
          <p:nvPr/>
        </p:nvSpPr>
        <p:spPr>
          <a:xfrm>
            <a:off x="7066080" y="258444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Freeform 47"/>
          <p:cNvSpPr/>
          <p:nvPr/>
        </p:nvSpPr>
        <p:spPr>
          <a:xfrm>
            <a:off x="7062840" y="2581200"/>
            <a:ext cx="31284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48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49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Freeform 50"/>
          <p:cNvSpPr/>
          <p:nvPr/>
        </p:nvSpPr>
        <p:spPr>
          <a:xfrm>
            <a:off x="6934320" y="389880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51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52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53"/>
          <p:cNvSpPr/>
          <p:nvPr/>
        </p:nvSpPr>
        <p:spPr>
          <a:xfrm>
            <a:off x="7191360" y="3898800"/>
            <a:ext cx="5256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Freeform 54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Freeform 55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56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57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Freeform 58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Freeform 59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0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61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Freeform 62"/>
          <p:cNvSpPr/>
          <p:nvPr/>
        </p:nvSpPr>
        <p:spPr>
          <a:xfrm>
            <a:off x="6916680" y="318780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Freeform 63"/>
          <p:cNvSpPr/>
          <p:nvPr/>
        </p:nvSpPr>
        <p:spPr>
          <a:xfrm>
            <a:off x="533232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64"/>
          <p:cNvSpPr/>
          <p:nvPr/>
        </p:nvSpPr>
        <p:spPr>
          <a:xfrm>
            <a:off x="5222880" y="29876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65"/>
          <p:cNvSpPr/>
          <p:nvPr/>
        </p:nvSpPr>
        <p:spPr>
          <a:xfrm>
            <a:off x="5238720" y="288936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66"/>
          <p:cNvSpPr/>
          <p:nvPr/>
        </p:nvSpPr>
        <p:spPr>
          <a:xfrm>
            <a:off x="5396040" y="294624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Freeform 67"/>
          <p:cNvSpPr/>
          <p:nvPr/>
        </p:nvSpPr>
        <p:spPr>
          <a:xfrm>
            <a:off x="4857840" y="3081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Freeform 68"/>
          <p:cNvSpPr/>
          <p:nvPr/>
        </p:nvSpPr>
        <p:spPr>
          <a:xfrm>
            <a:off x="485784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Freeform 69"/>
          <p:cNvSpPr/>
          <p:nvPr/>
        </p:nvSpPr>
        <p:spPr>
          <a:xfrm>
            <a:off x="5016600" y="2817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Freeform 70"/>
          <p:cNvSpPr/>
          <p:nvPr/>
        </p:nvSpPr>
        <p:spPr>
          <a:xfrm>
            <a:off x="5008680" y="317988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Freeform 71"/>
          <p:cNvSpPr/>
          <p:nvPr/>
        </p:nvSpPr>
        <p:spPr>
          <a:xfrm>
            <a:off x="4478400" y="30621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Freeform 72"/>
          <p:cNvSpPr/>
          <p:nvPr/>
        </p:nvSpPr>
        <p:spPr>
          <a:xfrm>
            <a:off x="4151160" y="2806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Freeform 73"/>
          <p:cNvSpPr/>
          <p:nvPr/>
        </p:nvSpPr>
        <p:spPr>
          <a:xfrm>
            <a:off x="4346640" y="2833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Freeform 74"/>
          <p:cNvSpPr/>
          <p:nvPr/>
        </p:nvSpPr>
        <p:spPr>
          <a:xfrm>
            <a:off x="4618080" y="281772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Freeform 75"/>
          <p:cNvSpPr/>
          <p:nvPr/>
        </p:nvSpPr>
        <p:spPr>
          <a:xfrm>
            <a:off x="3782880" y="28861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Freeform 76"/>
          <p:cNvSpPr/>
          <p:nvPr/>
        </p:nvSpPr>
        <p:spPr>
          <a:xfrm>
            <a:off x="3451320" y="30751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Freeform 77"/>
          <p:cNvSpPr/>
          <p:nvPr/>
        </p:nvSpPr>
        <p:spPr>
          <a:xfrm>
            <a:off x="3827520" y="33116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Freeform 78"/>
          <p:cNvSpPr/>
          <p:nvPr/>
        </p:nvSpPr>
        <p:spPr>
          <a:xfrm>
            <a:off x="4376880" y="322416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Freeform 79"/>
          <p:cNvSpPr/>
          <p:nvPr/>
        </p:nvSpPr>
        <p:spPr>
          <a:xfrm>
            <a:off x="4087800" y="29732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Freeform 80"/>
          <p:cNvSpPr/>
          <p:nvPr/>
        </p:nvSpPr>
        <p:spPr>
          <a:xfrm>
            <a:off x="3835440" y="310824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Freeform 81"/>
          <p:cNvSpPr/>
          <p:nvPr/>
        </p:nvSpPr>
        <p:spPr>
          <a:xfrm>
            <a:off x="4079880" y="3171960"/>
            <a:ext cx="2556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Freeform 82"/>
          <p:cNvSpPr/>
          <p:nvPr/>
        </p:nvSpPr>
        <p:spPr>
          <a:xfrm>
            <a:off x="4181400" y="331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Freeform 83"/>
          <p:cNvSpPr/>
          <p:nvPr/>
        </p:nvSpPr>
        <p:spPr>
          <a:xfrm>
            <a:off x="4941720" y="296856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Freeform 84"/>
          <p:cNvSpPr/>
          <p:nvPr/>
        </p:nvSpPr>
        <p:spPr>
          <a:xfrm>
            <a:off x="5049720" y="3081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Freeform 85"/>
          <p:cNvSpPr/>
          <p:nvPr/>
        </p:nvSpPr>
        <p:spPr>
          <a:xfrm>
            <a:off x="4552920" y="31640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Freeform 86"/>
          <p:cNvSpPr/>
          <p:nvPr/>
        </p:nvSpPr>
        <p:spPr>
          <a:xfrm>
            <a:off x="5106960" y="2943360"/>
            <a:ext cx="2556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Group 87"/>
          <p:cNvGrpSpPr/>
          <p:nvPr/>
        </p:nvGrpSpPr>
        <p:grpSpPr>
          <a:xfrm>
            <a:off x="4038480" y="3962520"/>
            <a:ext cx="4875480" cy="364680"/>
            <a:chOff x="4038480" y="3962520"/>
            <a:chExt cx="4875480" cy="364680"/>
          </a:xfrm>
        </p:grpSpPr>
        <p:grpSp>
          <p:nvGrpSpPr>
            <p:cNvPr id="462" name="Group 88"/>
            <p:cNvGrpSpPr/>
            <p:nvPr/>
          </p:nvGrpSpPr>
          <p:grpSpPr>
            <a:xfrm>
              <a:off x="6474240" y="3962520"/>
              <a:ext cx="2439720" cy="340920"/>
              <a:chOff x="6474240" y="3962520"/>
              <a:chExt cx="2439720" cy="340920"/>
            </a:xfrm>
          </p:grpSpPr>
          <p:grpSp>
            <p:nvGrpSpPr>
              <p:cNvPr id="463" name="Group 89"/>
              <p:cNvGrpSpPr/>
              <p:nvPr/>
            </p:nvGrpSpPr>
            <p:grpSpPr>
              <a:xfrm>
                <a:off x="7690680" y="3962520"/>
                <a:ext cx="1223280" cy="331560"/>
                <a:chOff x="7690680" y="3962520"/>
                <a:chExt cx="1223280" cy="331560"/>
              </a:xfrm>
            </p:grpSpPr>
            <p:grpSp>
              <p:nvGrpSpPr>
                <p:cNvPr id="464" name="Group 90"/>
                <p:cNvGrpSpPr/>
                <p:nvPr/>
              </p:nvGrpSpPr>
              <p:grpSpPr>
                <a:xfrm>
                  <a:off x="8293320" y="3962520"/>
                  <a:ext cx="620640" cy="326880"/>
                  <a:chOff x="8293320" y="3962520"/>
                  <a:chExt cx="620640" cy="326880"/>
                </a:xfrm>
              </p:grpSpPr>
              <p:sp>
                <p:nvSpPr>
                  <p:cNvPr id="465" name="Freeform 91"/>
                  <p:cNvSpPr/>
                  <p:nvPr/>
                </p:nvSpPr>
                <p:spPr>
                  <a:xfrm>
                    <a:off x="8293320" y="39625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Freeform 92"/>
                  <p:cNvSpPr/>
                  <p:nvPr/>
                </p:nvSpPr>
                <p:spPr>
                  <a:xfrm flipV="1">
                    <a:off x="8599320" y="39625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" name="Group 93"/>
                <p:cNvGrpSpPr/>
                <p:nvPr/>
              </p:nvGrpSpPr>
              <p:grpSpPr>
                <a:xfrm>
                  <a:off x="7690680" y="3967200"/>
                  <a:ext cx="620640" cy="326880"/>
                  <a:chOff x="7690680" y="3967200"/>
                  <a:chExt cx="620640" cy="326880"/>
                </a:xfrm>
              </p:grpSpPr>
              <p:sp>
                <p:nvSpPr>
                  <p:cNvPr id="468" name="Freeform 94"/>
                  <p:cNvSpPr/>
                  <p:nvPr/>
                </p:nvSpPr>
                <p:spPr>
                  <a:xfrm>
                    <a:off x="7690680" y="396720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95"/>
                  <p:cNvSpPr/>
                  <p:nvPr/>
                </p:nvSpPr>
                <p:spPr>
                  <a:xfrm flipV="1">
                    <a:off x="7996680" y="396720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Group 96"/>
              <p:cNvGrpSpPr/>
              <p:nvPr/>
            </p:nvGrpSpPr>
            <p:grpSpPr>
              <a:xfrm>
                <a:off x="6474240" y="3971880"/>
                <a:ext cx="1223280" cy="331560"/>
                <a:chOff x="6474240" y="3971880"/>
                <a:chExt cx="1223280" cy="331560"/>
              </a:xfrm>
            </p:grpSpPr>
            <p:grpSp>
              <p:nvGrpSpPr>
                <p:cNvPr id="471" name="Group 97"/>
                <p:cNvGrpSpPr/>
                <p:nvPr/>
              </p:nvGrpSpPr>
              <p:grpSpPr>
                <a:xfrm>
                  <a:off x="7076880" y="3971880"/>
                  <a:ext cx="620640" cy="326880"/>
                  <a:chOff x="7076880" y="3971880"/>
                  <a:chExt cx="620640" cy="326880"/>
                </a:xfrm>
              </p:grpSpPr>
              <p:sp>
                <p:nvSpPr>
                  <p:cNvPr id="472" name="Freeform 98"/>
                  <p:cNvSpPr/>
                  <p:nvPr/>
                </p:nvSpPr>
                <p:spPr>
                  <a:xfrm>
                    <a:off x="7076880" y="397188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Freeform 99"/>
                  <p:cNvSpPr/>
                  <p:nvPr/>
                </p:nvSpPr>
                <p:spPr>
                  <a:xfrm flipV="1">
                    <a:off x="7382880" y="39718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100"/>
                <p:cNvGrpSpPr/>
                <p:nvPr/>
              </p:nvGrpSpPr>
              <p:grpSpPr>
                <a:xfrm>
                  <a:off x="6474240" y="3976560"/>
                  <a:ext cx="620640" cy="326880"/>
                  <a:chOff x="6474240" y="3976560"/>
                  <a:chExt cx="620640" cy="326880"/>
                </a:xfrm>
              </p:grpSpPr>
              <p:sp>
                <p:nvSpPr>
                  <p:cNvPr id="475" name="Freeform 101"/>
                  <p:cNvSpPr/>
                  <p:nvPr/>
                </p:nvSpPr>
                <p:spPr>
                  <a:xfrm>
                    <a:off x="6474240" y="39765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Freeform 102"/>
                  <p:cNvSpPr/>
                  <p:nvPr/>
                </p:nvSpPr>
                <p:spPr>
                  <a:xfrm flipV="1">
                    <a:off x="6780240" y="39765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77" name="Group 103"/>
            <p:cNvGrpSpPr/>
            <p:nvPr/>
          </p:nvGrpSpPr>
          <p:grpSpPr>
            <a:xfrm>
              <a:off x="4038480" y="3986280"/>
              <a:ext cx="2441160" cy="340920"/>
              <a:chOff x="4038480" y="3986280"/>
              <a:chExt cx="2441160" cy="340920"/>
            </a:xfrm>
          </p:grpSpPr>
          <p:grpSp>
            <p:nvGrpSpPr>
              <p:cNvPr id="478" name="Group 104"/>
              <p:cNvGrpSpPr/>
              <p:nvPr/>
            </p:nvGrpSpPr>
            <p:grpSpPr>
              <a:xfrm>
                <a:off x="5255280" y="3986280"/>
                <a:ext cx="1224360" cy="331560"/>
                <a:chOff x="5255280" y="3986280"/>
                <a:chExt cx="1224360" cy="331560"/>
              </a:xfrm>
            </p:grpSpPr>
            <p:grpSp>
              <p:nvGrpSpPr>
                <p:cNvPr id="479" name="Group 105"/>
                <p:cNvGrpSpPr/>
                <p:nvPr/>
              </p:nvGrpSpPr>
              <p:grpSpPr>
                <a:xfrm>
                  <a:off x="5858280" y="3986280"/>
                  <a:ext cx="621360" cy="326880"/>
                  <a:chOff x="5858280" y="3986280"/>
                  <a:chExt cx="621360" cy="326880"/>
                </a:xfrm>
              </p:grpSpPr>
              <p:sp>
                <p:nvSpPr>
                  <p:cNvPr id="480" name="Freeform 106"/>
                  <p:cNvSpPr/>
                  <p:nvPr/>
                </p:nvSpPr>
                <p:spPr>
                  <a:xfrm>
                    <a:off x="5858280" y="39862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Freeform 107"/>
                  <p:cNvSpPr/>
                  <p:nvPr/>
                </p:nvSpPr>
                <p:spPr>
                  <a:xfrm flipV="1">
                    <a:off x="6164640" y="398628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" name="Group 108"/>
                <p:cNvGrpSpPr/>
                <p:nvPr/>
              </p:nvGrpSpPr>
              <p:grpSpPr>
                <a:xfrm>
                  <a:off x="5255280" y="3990960"/>
                  <a:ext cx="620640" cy="326880"/>
                  <a:chOff x="5255280" y="3990960"/>
                  <a:chExt cx="620640" cy="326880"/>
                </a:xfrm>
              </p:grpSpPr>
              <p:sp>
                <p:nvSpPr>
                  <p:cNvPr id="483" name="Freeform 109"/>
                  <p:cNvSpPr/>
                  <p:nvPr/>
                </p:nvSpPr>
                <p:spPr>
                  <a:xfrm>
                    <a:off x="5255280" y="39909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Freeform 110"/>
                  <p:cNvSpPr/>
                  <p:nvPr/>
                </p:nvSpPr>
                <p:spPr>
                  <a:xfrm flipV="1">
                    <a:off x="5561280" y="39909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5" name="Group 111"/>
              <p:cNvGrpSpPr/>
              <p:nvPr/>
            </p:nvGrpSpPr>
            <p:grpSpPr>
              <a:xfrm>
                <a:off x="4038480" y="3995640"/>
                <a:ext cx="1224360" cy="331560"/>
                <a:chOff x="4038480" y="3995640"/>
                <a:chExt cx="1224360" cy="331560"/>
              </a:xfrm>
            </p:grpSpPr>
            <p:grpSp>
              <p:nvGrpSpPr>
                <p:cNvPr id="486" name="Group 112"/>
                <p:cNvGrpSpPr/>
                <p:nvPr/>
              </p:nvGrpSpPr>
              <p:grpSpPr>
                <a:xfrm>
                  <a:off x="4641480" y="3995640"/>
                  <a:ext cx="621360" cy="326880"/>
                  <a:chOff x="4641480" y="3995640"/>
                  <a:chExt cx="621360" cy="326880"/>
                </a:xfrm>
              </p:grpSpPr>
              <p:sp>
                <p:nvSpPr>
                  <p:cNvPr id="487" name="Freeform 113"/>
                  <p:cNvSpPr/>
                  <p:nvPr/>
                </p:nvSpPr>
                <p:spPr>
                  <a:xfrm>
                    <a:off x="4641480" y="399564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Freeform 114"/>
                  <p:cNvSpPr/>
                  <p:nvPr/>
                </p:nvSpPr>
                <p:spPr>
                  <a:xfrm flipV="1">
                    <a:off x="4947840" y="399564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Group 115"/>
                <p:cNvGrpSpPr/>
                <p:nvPr/>
              </p:nvGrpSpPr>
              <p:grpSpPr>
                <a:xfrm>
                  <a:off x="4038480" y="4000320"/>
                  <a:ext cx="620640" cy="326880"/>
                  <a:chOff x="4038480" y="4000320"/>
                  <a:chExt cx="620640" cy="326880"/>
                </a:xfrm>
              </p:grpSpPr>
              <p:sp>
                <p:nvSpPr>
                  <p:cNvPr id="490" name="Freeform 116"/>
                  <p:cNvSpPr/>
                  <p:nvPr/>
                </p:nvSpPr>
                <p:spPr>
                  <a:xfrm>
                    <a:off x="4038480" y="40003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Freeform 117"/>
                  <p:cNvSpPr/>
                  <p:nvPr/>
                </p:nvSpPr>
                <p:spPr>
                  <a:xfrm flipV="1">
                    <a:off x="4344480" y="40003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92" name="Text Box 118"/>
          <p:cNvSpPr/>
          <p:nvPr/>
        </p:nvSpPr>
        <p:spPr>
          <a:xfrm>
            <a:off x="6765840" y="443880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119"/>
          <p:cNvSpPr/>
          <p:nvPr/>
        </p:nvSpPr>
        <p:spPr>
          <a:xfrm>
            <a:off x="519840" y="5353200"/>
            <a:ext cx="82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Freeform 120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4876920" y="2590920"/>
            <a:ext cx="380880" cy="520560"/>
            <a:chOff x="4876920" y="2590920"/>
            <a:chExt cx="380880" cy="520560"/>
          </a:xfrm>
        </p:grpSpPr>
        <p:sp>
          <p:nvSpPr>
            <p:cNvPr id="497" name="Oval 3"/>
            <p:cNvSpPr/>
            <p:nvPr/>
          </p:nvSpPr>
          <p:spPr>
            <a:xfrm>
              <a:off x="4876920" y="2743560"/>
              <a:ext cx="304560" cy="304560"/>
            </a:xfrm>
            <a:prstGeom prst="ellipse">
              <a:avLst/>
            </a:prstGeom>
            <a:solidFill>
              <a:srgbClr val="f57b4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Text Box 4"/>
            <p:cNvSpPr/>
            <p:nvPr/>
          </p:nvSpPr>
          <p:spPr>
            <a:xfrm>
              <a:off x="4876920" y="25909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762120" y="2995560"/>
            <a:ext cx="4194720" cy="1192320"/>
            <a:chOff x="762120" y="2995560"/>
            <a:chExt cx="4194720" cy="1192320"/>
          </a:xfrm>
        </p:grpSpPr>
        <p:grpSp>
          <p:nvGrpSpPr>
            <p:cNvPr id="500" name="Group 6"/>
            <p:cNvGrpSpPr/>
            <p:nvPr/>
          </p:nvGrpSpPr>
          <p:grpSpPr>
            <a:xfrm>
              <a:off x="2853360" y="2995560"/>
              <a:ext cx="2103480" cy="1159560"/>
              <a:chOff x="2853360" y="2995560"/>
              <a:chExt cx="2103480" cy="1159560"/>
            </a:xfrm>
          </p:grpSpPr>
          <p:grpSp>
            <p:nvGrpSpPr>
              <p:cNvPr id="501" name="Group 7"/>
              <p:cNvGrpSpPr/>
              <p:nvPr/>
            </p:nvGrpSpPr>
            <p:grpSpPr>
              <a:xfrm>
                <a:off x="3889440" y="2995560"/>
                <a:ext cx="1067400" cy="1141920"/>
                <a:chOff x="3889440" y="2995560"/>
                <a:chExt cx="1067400" cy="1141920"/>
              </a:xfrm>
            </p:grpSpPr>
            <p:sp>
              <p:nvSpPr>
                <p:cNvPr id="502" name="Freeform 8"/>
                <p:cNvSpPr/>
                <p:nvPr/>
              </p:nvSpPr>
              <p:spPr>
                <a:xfrm>
                  <a:off x="3889440" y="299556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9"/>
                <p:cNvSpPr/>
                <p:nvPr/>
              </p:nvSpPr>
              <p:spPr>
                <a:xfrm flipV="1">
                  <a:off x="4415760" y="299556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Group 10"/>
              <p:cNvGrpSpPr/>
              <p:nvPr/>
            </p:nvGrpSpPr>
            <p:grpSpPr>
              <a:xfrm>
                <a:off x="2853360" y="3011760"/>
                <a:ext cx="1067040" cy="1143360"/>
                <a:chOff x="2853360" y="3011760"/>
                <a:chExt cx="1067040" cy="1143360"/>
              </a:xfrm>
            </p:grpSpPr>
            <p:sp>
              <p:nvSpPr>
                <p:cNvPr id="505" name="Freeform 11"/>
                <p:cNvSpPr/>
                <p:nvPr/>
              </p:nvSpPr>
              <p:spPr>
                <a:xfrm>
                  <a:off x="2853360" y="301176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2"/>
                <p:cNvSpPr/>
                <p:nvPr/>
              </p:nvSpPr>
              <p:spPr>
                <a:xfrm flipV="1">
                  <a:off x="3379680" y="301176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" name="Group 13"/>
            <p:cNvGrpSpPr/>
            <p:nvPr/>
          </p:nvGrpSpPr>
          <p:grpSpPr>
            <a:xfrm>
              <a:off x="762120" y="3028320"/>
              <a:ext cx="2103480" cy="1159560"/>
              <a:chOff x="762120" y="3028320"/>
              <a:chExt cx="2103480" cy="1159560"/>
            </a:xfrm>
          </p:grpSpPr>
          <p:grpSp>
            <p:nvGrpSpPr>
              <p:cNvPr id="508" name="Group 14"/>
              <p:cNvGrpSpPr/>
              <p:nvPr/>
            </p:nvGrpSpPr>
            <p:grpSpPr>
              <a:xfrm>
                <a:off x="1798200" y="3028320"/>
                <a:ext cx="1067400" cy="1141920"/>
                <a:chOff x="1798200" y="3028320"/>
                <a:chExt cx="1067400" cy="1141920"/>
              </a:xfrm>
            </p:grpSpPr>
            <p:sp>
              <p:nvSpPr>
                <p:cNvPr id="509" name="Freeform 15"/>
                <p:cNvSpPr/>
                <p:nvPr/>
              </p:nvSpPr>
              <p:spPr>
                <a:xfrm>
                  <a:off x="1798200" y="302832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16"/>
                <p:cNvSpPr/>
                <p:nvPr/>
              </p:nvSpPr>
              <p:spPr>
                <a:xfrm flipV="1">
                  <a:off x="2324520" y="302832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Group 17"/>
              <p:cNvGrpSpPr/>
              <p:nvPr/>
            </p:nvGrpSpPr>
            <p:grpSpPr>
              <a:xfrm>
                <a:off x="762120" y="3044520"/>
                <a:ext cx="1067040" cy="1143360"/>
                <a:chOff x="762120" y="3044520"/>
                <a:chExt cx="1067040" cy="1143360"/>
              </a:xfrm>
            </p:grpSpPr>
            <p:sp>
              <p:nvSpPr>
                <p:cNvPr id="512" name="Freeform 18"/>
                <p:cNvSpPr/>
                <p:nvPr/>
              </p:nvSpPr>
              <p:spPr>
                <a:xfrm>
                  <a:off x="762120" y="304452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19"/>
                <p:cNvSpPr/>
                <p:nvPr/>
              </p:nvSpPr>
              <p:spPr>
                <a:xfrm flipV="1">
                  <a:off x="1288440" y="304452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5" name="Oval 21"/>
          <p:cNvSpPr/>
          <p:nvPr/>
        </p:nvSpPr>
        <p:spPr>
          <a:xfrm>
            <a:off x="4724280" y="-266760"/>
            <a:ext cx="533520" cy="53352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6" name="Group 22"/>
          <p:cNvGrpSpPr/>
          <p:nvPr/>
        </p:nvGrpSpPr>
        <p:grpSpPr>
          <a:xfrm>
            <a:off x="4724280" y="2614680"/>
            <a:ext cx="762120" cy="581400"/>
            <a:chOff x="4724280" y="2614680"/>
            <a:chExt cx="762120" cy="581400"/>
          </a:xfrm>
        </p:grpSpPr>
        <p:sp>
          <p:nvSpPr>
            <p:cNvPr id="517" name="Oval 23"/>
            <p:cNvSpPr/>
            <p:nvPr/>
          </p:nvSpPr>
          <p:spPr>
            <a:xfrm>
              <a:off x="4724280" y="266040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Text Box 24"/>
            <p:cNvSpPr/>
            <p:nvPr/>
          </p:nvSpPr>
          <p:spPr>
            <a:xfrm>
              <a:off x="4800600" y="2614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3.33333E-006 0.93334 E">
                                      <p:cBhvr>
                                        <p:cTn id="659" dur="3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60" dur="1" fill="hold">
                                    <p:stCondLst>
                                      <p:cond evt="end">
                                        <p:tn val="658"/>
                                      </p:cond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61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4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33333E-006 3.7037E-006 L -3.33333E-006 0.93564 E">
                                      <p:cBhvr>
                                        <p:cTn id="667" dur="3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path" presetID="56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7.40741E-007 L 0.35416 -0.18218 E">
                                      <p:cBhvr>
                                        <p:cTn id="671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3" dur="26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83"/>
          <p:cNvSpPr/>
          <p:nvPr/>
        </p:nvSpPr>
        <p:spPr>
          <a:xfrm>
            <a:off x="1041840" y="535320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2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03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83"/>
          <p:cNvSpPr/>
          <p:nvPr/>
        </p:nvSpPr>
        <p:spPr>
          <a:xfrm>
            <a:off x="1045080" y="535320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95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4"/>
          <p:cNvGrpSpPr/>
          <p:nvPr/>
        </p:nvGrpSpPr>
        <p:grpSpPr>
          <a:xfrm>
            <a:off x="4495680" y="3048120"/>
            <a:ext cx="762120" cy="581400"/>
            <a:chOff x="4495680" y="3048120"/>
            <a:chExt cx="762120" cy="581400"/>
          </a:xfrm>
        </p:grpSpPr>
        <p:sp>
          <p:nvSpPr>
            <p:cNvPr id="707" name="Oval 5"/>
            <p:cNvSpPr/>
            <p:nvPr/>
          </p:nvSpPr>
          <p:spPr>
            <a:xfrm>
              <a:off x="4495680" y="309384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4572000" y="3048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Rectangle 7"/>
          <p:cNvSpPr/>
          <p:nvPr/>
        </p:nvSpPr>
        <p:spPr>
          <a:xfrm>
            <a:off x="304920" y="44197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304920" y="48769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Rectangle 9"/>
          <p:cNvSpPr/>
          <p:nvPr/>
        </p:nvSpPr>
        <p:spPr>
          <a:xfrm>
            <a:off x="304920" y="12193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1219320" y="51055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11"/>
          <p:cNvSpPr/>
          <p:nvPr/>
        </p:nvSpPr>
        <p:spPr>
          <a:xfrm>
            <a:off x="2438280" y="51055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12"/>
          <p:cNvSpPr/>
          <p:nvPr/>
        </p:nvSpPr>
        <p:spPr>
          <a:xfrm>
            <a:off x="37339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4800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5943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15"/>
          <p:cNvSpPr/>
          <p:nvPr/>
        </p:nvSpPr>
        <p:spPr>
          <a:xfrm>
            <a:off x="67057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77724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990720" y="14479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2209680" y="14479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35053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4572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Text Box 21"/>
          <p:cNvSpPr/>
          <p:nvPr/>
        </p:nvSpPr>
        <p:spPr>
          <a:xfrm>
            <a:off x="5715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64771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75438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908640" y="41911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autoRev="1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C 0 -0.00718 0.00017 -0.01366 0.00035 -0.01366 C 0.00069 -0.01366 0.00087 -0.00718 0.00087 3.7037E-006 C 0.00104 0.0081 0.00122 0.0162 0.00156 0.0162 C 0.00174 0.0162 0.00191 0.0081 0.00208 3.7037E-006 C 0.00208 -0.00718 0.00226 -0.01366 0.00243 -0.01366 C 0.00278 -0.01366 0.00295 -0.00718 0.00295 3.7037E-006 C 0.00313 0.0081 0.0033 0.0162 0.00347 0.0162 C 0.00382 0.0162 0.00417 3.7037E-006 0.00417 0.00023 C 0.00417 -0.00718 0.00434 -0.01366 0.00451 -0.01366 C 0.00486 -0.01366 0.00503 -0.00718 0.00503 3.7037E-006 C 0.00521 0.0081 0.00538 0.0162 0.00573 0.0162 C 0.0059 0.0162 0.00608 0.0081 0.00608 3.7037E-006 C 0.00625 -0.00718 0.00642 -0.01366 0.0066 -0.01366 C 0.00694 -0.01366 0.00712 -0.00718 0.00712 3.7037E-006 C 0.00729 0.0081 0.00747 0.0162 0.00764 0.0162 C 0.00799 0.0162 0.00816 0.0081 0.00833 3.7037E-006 E">
                                      <p:cBhvr>
                                        <p:cTn id="692" dur="5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Text Box 83"/>
          <p:cNvSpPr/>
          <p:nvPr/>
        </p:nvSpPr>
        <p:spPr>
          <a:xfrm>
            <a:off x="446040" y="52578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0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811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Text Box 88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89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90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91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nest Rutherford  English physicist. (19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d the plum pudding model of the atom was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ed to see how big they 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radio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- positively charged pieces given off by uran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 them at gold foil which can be made a few atoms thi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2" dur="1" fill="hold"/>
                                  <p:tgtEl>
                                    <p:spTgt spid="8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alpha particles hit a florescent screen, it g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’s what it looked like (pg 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6" dur="1" fill="hold"/>
                                  <p:tgtEl>
                                    <p:spTgt spid="8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3"/>
          <p:cNvSpPr/>
          <p:nvPr/>
        </p:nvSpPr>
        <p:spPr>
          <a:xfrm>
            <a:off x="901800" y="825480"/>
            <a:ext cx="1234800" cy="106740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4"/>
          <p:cNvSpPr/>
          <p:nvPr/>
        </p:nvSpPr>
        <p:spPr>
          <a:xfrm>
            <a:off x="1371600" y="1905120"/>
            <a:ext cx="457200" cy="8380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2724480" y="954000"/>
            <a:ext cx="163440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6"/>
          <p:cNvSpPr/>
          <p:nvPr/>
        </p:nvSpPr>
        <p:spPr>
          <a:xfrm flipH="1">
            <a:off x="2209680" y="1523880"/>
            <a:ext cx="1067040" cy="20574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4782600" y="2325600"/>
            <a:ext cx="175788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8"/>
          <p:cNvSpPr/>
          <p:nvPr/>
        </p:nvSpPr>
        <p:spPr>
          <a:xfrm>
            <a:off x="5620320" y="511200"/>
            <a:ext cx="1686240" cy="824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9"/>
          <p:cNvSpPr/>
          <p:nvPr/>
        </p:nvSpPr>
        <p:spPr>
          <a:xfrm flipH="1">
            <a:off x="6400440" y="1371600"/>
            <a:ext cx="228600" cy="5335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e Expecte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pha particles to pass through without changing direction very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sitive charges were spread out evenly. Alone they were not enough to stop the alpha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8" dur="1" fill="hold"/>
                                  <p:tgtEl>
                                    <p:spTgt spid="8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44193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b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sand - smaller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2286000" y="2895480"/>
          <a:ext cx="5486400" cy="30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95480"/>
                    <a:ext cx="548640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5"/>
          <p:cNvSpPr/>
          <p:nvPr/>
        </p:nvSpPr>
        <p:spPr>
          <a:xfrm>
            <a:off x="4406760" y="1112760"/>
            <a:ext cx="44323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possible pie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os - not to be c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Line 5"/>
          <p:cNvSpPr/>
          <p:nvPr/>
        </p:nvSpPr>
        <p:spPr>
          <a:xfrm>
            <a:off x="5867280" y="365760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1219320" y="914400"/>
            <a:ext cx="495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1219320" y="914400"/>
            <a:ext cx="647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990720" y="914400"/>
            <a:ext cx="3962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1" name="Group 14"/>
          <p:cNvGrpSpPr/>
          <p:nvPr/>
        </p:nvGrpSpPr>
        <p:grpSpPr>
          <a:xfrm>
            <a:off x="4807080" y="1225440"/>
            <a:ext cx="1892160" cy="1892520"/>
            <a:chOff x="4807080" y="1225440"/>
            <a:chExt cx="1892160" cy="1892520"/>
          </a:xfrm>
        </p:grpSpPr>
        <p:sp>
          <p:nvSpPr>
            <p:cNvPr id="872" name="Oval 3"/>
            <p:cNvSpPr/>
            <p:nvPr/>
          </p:nvSpPr>
          <p:spPr>
            <a:xfrm>
              <a:off x="4807080" y="1225440"/>
              <a:ext cx="189216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Oval 4"/>
            <p:cNvSpPr/>
            <p:nvPr/>
          </p:nvSpPr>
          <p:spPr>
            <a:xfrm>
              <a:off x="5351400" y="1542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5"/>
            <p:cNvSpPr/>
            <p:nvPr/>
          </p:nvSpPr>
          <p:spPr>
            <a:xfrm>
              <a:off x="5391000" y="167148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Oval 6"/>
            <p:cNvSpPr/>
            <p:nvPr/>
          </p:nvSpPr>
          <p:spPr>
            <a:xfrm>
              <a:off x="6121440" y="2222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7"/>
            <p:cNvSpPr/>
            <p:nvPr/>
          </p:nvSpPr>
          <p:spPr>
            <a:xfrm>
              <a:off x="6161040" y="2354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Oval 8"/>
            <p:cNvSpPr/>
            <p:nvPr/>
          </p:nvSpPr>
          <p:spPr>
            <a:xfrm>
              <a:off x="5079960" y="2313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9"/>
            <p:cNvSpPr/>
            <p:nvPr/>
          </p:nvSpPr>
          <p:spPr>
            <a:xfrm>
              <a:off x="5118120" y="2444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Oval 10"/>
            <p:cNvSpPr/>
            <p:nvPr/>
          </p:nvSpPr>
          <p:spPr>
            <a:xfrm>
              <a:off x="5986440" y="1633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11"/>
            <p:cNvSpPr/>
            <p:nvPr/>
          </p:nvSpPr>
          <p:spPr>
            <a:xfrm>
              <a:off x="6026040" y="176364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Oval 12"/>
            <p:cNvSpPr/>
            <p:nvPr/>
          </p:nvSpPr>
          <p:spPr>
            <a:xfrm>
              <a:off x="5715000" y="2678040"/>
              <a:ext cx="25884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13"/>
            <p:cNvSpPr/>
            <p:nvPr/>
          </p:nvSpPr>
          <p:spPr>
            <a:xfrm>
              <a:off x="5753160" y="2806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3" name="Group 26"/>
          <p:cNvGrpSpPr/>
          <p:nvPr/>
        </p:nvGrpSpPr>
        <p:grpSpPr>
          <a:xfrm>
            <a:off x="6483240" y="82440"/>
            <a:ext cx="1892520" cy="1892520"/>
            <a:chOff x="6483240" y="82440"/>
            <a:chExt cx="1892520" cy="1892520"/>
          </a:xfrm>
        </p:grpSpPr>
        <p:sp>
          <p:nvSpPr>
            <p:cNvPr id="884" name="Oval 15"/>
            <p:cNvSpPr/>
            <p:nvPr/>
          </p:nvSpPr>
          <p:spPr>
            <a:xfrm>
              <a:off x="6483240" y="824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Oval 16"/>
            <p:cNvSpPr/>
            <p:nvPr/>
          </p:nvSpPr>
          <p:spPr>
            <a:xfrm>
              <a:off x="7027920" y="399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17"/>
            <p:cNvSpPr/>
            <p:nvPr/>
          </p:nvSpPr>
          <p:spPr>
            <a:xfrm>
              <a:off x="7067520" y="5284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Oval 18"/>
            <p:cNvSpPr/>
            <p:nvPr/>
          </p:nvSpPr>
          <p:spPr>
            <a:xfrm>
              <a:off x="7797960" y="1079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19"/>
            <p:cNvSpPr/>
            <p:nvPr/>
          </p:nvSpPr>
          <p:spPr>
            <a:xfrm>
              <a:off x="7837560" y="1211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Oval 20"/>
            <p:cNvSpPr/>
            <p:nvPr/>
          </p:nvSpPr>
          <p:spPr>
            <a:xfrm>
              <a:off x="6756480" y="1170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21"/>
            <p:cNvSpPr/>
            <p:nvPr/>
          </p:nvSpPr>
          <p:spPr>
            <a:xfrm>
              <a:off x="6794640" y="1301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Oval 22"/>
            <p:cNvSpPr/>
            <p:nvPr/>
          </p:nvSpPr>
          <p:spPr>
            <a:xfrm>
              <a:off x="7662960" y="490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23"/>
            <p:cNvSpPr/>
            <p:nvPr/>
          </p:nvSpPr>
          <p:spPr>
            <a:xfrm>
              <a:off x="7702560" y="6206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Oval 24"/>
            <p:cNvSpPr/>
            <p:nvPr/>
          </p:nvSpPr>
          <p:spPr>
            <a:xfrm>
              <a:off x="7391520" y="15350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25"/>
            <p:cNvSpPr/>
            <p:nvPr/>
          </p:nvSpPr>
          <p:spPr>
            <a:xfrm>
              <a:off x="7429680" y="166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5" name="Group 38"/>
          <p:cNvGrpSpPr/>
          <p:nvPr/>
        </p:nvGrpSpPr>
        <p:grpSpPr>
          <a:xfrm>
            <a:off x="6559560" y="2063880"/>
            <a:ext cx="1892160" cy="1892160"/>
            <a:chOff x="6559560" y="2063880"/>
            <a:chExt cx="1892160" cy="1892160"/>
          </a:xfrm>
        </p:grpSpPr>
        <p:sp>
          <p:nvSpPr>
            <p:cNvPr id="896" name="Oval 27"/>
            <p:cNvSpPr/>
            <p:nvPr/>
          </p:nvSpPr>
          <p:spPr>
            <a:xfrm>
              <a:off x="6559560" y="206388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Oval 28"/>
            <p:cNvSpPr/>
            <p:nvPr/>
          </p:nvSpPr>
          <p:spPr>
            <a:xfrm>
              <a:off x="7104240" y="23814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29"/>
            <p:cNvSpPr/>
            <p:nvPr/>
          </p:nvSpPr>
          <p:spPr>
            <a:xfrm>
              <a:off x="7143840" y="250992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Oval 30"/>
            <p:cNvSpPr/>
            <p:nvPr/>
          </p:nvSpPr>
          <p:spPr>
            <a:xfrm>
              <a:off x="7873920" y="306072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31"/>
            <p:cNvSpPr/>
            <p:nvPr/>
          </p:nvSpPr>
          <p:spPr>
            <a:xfrm>
              <a:off x="7913520" y="3192480"/>
              <a:ext cx="1828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Oval 32"/>
            <p:cNvSpPr/>
            <p:nvPr/>
          </p:nvSpPr>
          <p:spPr>
            <a:xfrm>
              <a:off x="6832440" y="315108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33"/>
            <p:cNvSpPr/>
            <p:nvPr/>
          </p:nvSpPr>
          <p:spPr>
            <a:xfrm>
              <a:off x="6870600" y="328284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Oval 34"/>
            <p:cNvSpPr/>
            <p:nvPr/>
          </p:nvSpPr>
          <p:spPr>
            <a:xfrm>
              <a:off x="7738920" y="2471760"/>
              <a:ext cx="26064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35"/>
            <p:cNvSpPr/>
            <p:nvPr/>
          </p:nvSpPr>
          <p:spPr>
            <a:xfrm>
              <a:off x="7778880" y="26020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Oval 36"/>
            <p:cNvSpPr/>
            <p:nvPr/>
          </p:nvSpPr>
          <p:spPr>
            <a:xfrm>
              <a:off x="7467480" y="351648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37"/>
            <p:cNvSpPr/>
            <p:nvPr/>
          </p:nvSpPr>
          <p:spPr>
            <a:xfrm>
              <a:off x="7505640" y="36450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7" name="Group 50"/>
          <p:cNvGrpSpPr/>
          <p:nvPr/>
        </p:nvGrpSpPr>
        <p:grpSpPr>
          <a:xfrm>
            <a:off x="6635880" y="4044960"/>
            <a:ext cx="1892160" cy="1892160"/>
            <a:chOff x="6635880" y="4044960"/>
            <a:chExt cx="1892160" cy="1892160"/>
          </a:xfrm>
        </p:grpSpPr>
        <p:sp>
          <p:nvSpPr>
            <p:cNvPr id="908" name="Oval 39"/>
            <p:cNvSpPr/>
            <p:nvPr/>
          </p:nvSpPr>
          <p:spPr>
            <a:xfrm>
              <a:off x="6635880" y="404496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Oval 40"/>
            <p:cNvSpPr/>
            <p:nvPr/>
          </p:nvSpPr>
          <p:spPr>
            <a:xfrm>
              <a:off x="7180200" y="436248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41"/>
            <p:cNvSpPr/>
            <p:nvPr/>
          </p:nvSpPr>
          <p:spPr>
            <a:xfrm>
              <a:off x="7219800" y="449100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Oval 42"/>
            <p:cNvSpPr/>
            <p:nvPr/>
          </p:nvSpPr>
          <p:spPr>
            <a:xfrm>
              <a:off x="7950240" y="50418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43"/>
            <p:cNvSpPr/>
            <p:nvPr/>
          </p:nvSpPr>
          <p:spPr>
            <a:xfrm>
              <a:off x="7989840" y="517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Oval 44"/>
            <p:cNvSpPr/>
            <p:nvPr/>
          </p:nvSpPr>
          <p:spPr>
            <a:xfrm>
              <a:off x="6908760" y="513252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45"/>
            <p:cNvSpPr/>
            <p:nvPr/>
          </p:nvSpPr>
          <p:spPr>
            <a:xfrm>
              <a:off x="6946920" y="52642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Oval 46"/>
            <p:cNvSpPr/>
            <p:nvPr/>
          </p:nvSpPr>
          <p:spPr>
            <a:xfrm>
              <a:off x="7815240" y="4452840"/>
              <a:ext cx="26028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47"/>
            <p:cNvSpPr/>
            <p:nvPr/>
          </p:nvSpPr>
          <p:spPr>
            <a:xfrm>
              <a:off x="7854840" y="458316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Oval 48"/>
            <p:cNvSpPr/>
            <p:nvPr/>
          </p:nvSpPr>
          <p:spPr>
            <a:xfrm>
              <a:off x="7543800" y="549756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49"/>
            <p:cNvSpPr/>
            <p:nvPr/>
          </p:nvSpPr>
          <p:spPr>
            <a:xfrm>
              <a:off x="7581960" y="56260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9" name="Group 62"/>
          <p:cNvGrpSpPr/>
          <p:nvPr/>
        </p:nvGrpSpPr>
        <p:grpSpPr>
          <a:xfrm>
            <a:off x="4883040" y="3282840"/>
            <a:ext cx="1892520" cy="1892520"/>
            <a:chOff x="4883040" y="3282840"/>
            <a:chExt cx="1892520" cy="1892520"/>
          </a:xfrm>
        </p:grpSpPr>
        <p:sp>
          <p:nvSpPr>
            <p:cNvPr id="920" name="Oval 51"/>
            <p:cNvSpPr/>
            <p:nvPr/>
          </p:nvSpPr>
          <p:spPr>
            <a:xfrm>
              <a:off x="4883040" y="32828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Oval 52"/>
            <p:cNvSpPr/>
            <p:nvPr/>
          </p:nvSpPr>
          <p:spPr>
            <a:xfrm>
              <a:off x="5427720" y="36003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3"/>
            <p:cNvSpPr/>
            <p:nvPr/>
          </p:nvSpPr>
          <p:spPr>
            <a:xfrm>
              <a:off x="5467320" y="37288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Oval 54"/>
            <p:cNvSpPr/>
            <p:nvPr/>
          </p:nvSpPr>
          <p:spPr>
            <a:xfrm>
              <a:off x="6197760" y="42800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5"/>
            <p:cNvSpPr/>
            <p:nvPr/>
          </p:nvSpPr>
          <p:spPr>
            <a:xfrm>
              <a:off x="6237360" y="44118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Oval 56"/>
            <p:cNvSpPr/>
            <p:nvPr/>
          </p:nvSpPr>
          <p:spPr>
            <a:xfrm>
              <a:off x="5156280" y="43704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7"/>
            <p:cNvSpPr/>
            <p:nvPr/>
          </p:nvSpPr>
          <p:spPr>
            <a:xfrm>
              <a:off x="5194440" y="45021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Oval 58"/>
            <p:cNvSpPr/>
            <p:nvPr/>
          </p:nvSpPr>
          <p:spPr>
            <a:xfrm>
              <a:off x="6062760" y="36910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9"/>
            <p:cNvSpPr/>
            <p:nvPr/>
          </p:nvSpPr>
          <p:spPr>
            <a:xfrm>
              <a:off x="6102360" y="38210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Oval 60"/>
            <p:cNvSpPr/>
            <p:nvPr/>
          </p:nvSpPr>
          <p:spPr>
            <a:xfrm>
              <a:off x="5791320" y="47354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61"/>
            <p:cNvSpPr/>
            <p:nvPr/>
          </p:nvSpPr>
          <p:spPr>
            <a:xfrm>
              <a:off x="5829480" y="48639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1" name="Line 63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Line 64"/>
          <p:cNvSpPr/>
          <p:nvPr/>
        </p:nvSpPr>
        <p:spPr>
          <a:xfrm>
            <a:off x="762120" y="54100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65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66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937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Line 5"/>
          <p:cNvSpPr/>
          <p:nvPr/>
        </p:nvSpPr>
        <p:spPr>
          <a:xfrm>
            <a:off x="5791320" y="3657600"/>
            <a:ext cx="1600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Line 6"/>
          <p:cNvSpPr/>
          <p:nvPr/>
        </p:nvSpPr>
        <p:spPr>
          <a:xfrm flipV="1">
            <a:off x="5791320" y="3504960"/>
            <a:ext cx="16002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Line 7"/>
          <p:cNvSpPr/>
          <p:nvPr/>
        </p:nvSpPr>
        <p:spPr>
          <a:xfrm>
            <a:off x="5867280" y="3657600"/>
            <a:ext cx="160020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5791320" y="3657600"/>
            <a:ext cx="16002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9"/>
          <p:cNvSpPr/>
          <p:nvPr/>
        </p:nvSpPr>
        <p:spPr>
          <a:xfrm flipV="1">
            <a:off x="5943600" y="3276720"/>
            <a:ext cx="137160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Line 10"/>
          <p:cNvSpPr/>
          <p:nvPr/>
        </p:nvSpPr>
        <p:spPr>
          <a:xfrm flipV="1">
            <a:off x="5867280" y="2971440"/>
            <a:ext cx="14479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Line 11"/>
          <p:cNvSpPr/>
          <p:nvPr/>
        </p:nvSpPr>
        <p:spPr>
          <a:xfrm>
            <a:off x="5791320" y="3657600"/>
            <a:ext cx="15238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Line 12"/>
          <p:cNvSpPr/>
          <p:nvPr/>
        </p:nvSpPr>
        <p:spPr>
          <a:xfrm flipV="1">
            <a:off x="5867280" y="2437920"/>
            <a:ext cx="91440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Line 13"/>
          <p:cNvSpPr/>
          <p:nvPr/>
        </p:nvSpPr>
        <p:spPr>
          <a:xfrm>
            <a:off x="5867280" y="3733920"/>
            <a:ext cx="91440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Line 14"/>
          <p:cNvSpPr/>
          <p:nvPr/>
        </p:nvSpPr>
        <p:spPr>
          <a:xfrm flipH="1">
            <a:off x="5409720" y="3657600"/>
            <a:ext cx="304920" cy="175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Line 15"/>
          <p:cNvSpPr/>
          <p:nvPr/>
        </p:nvSpPr>
        <p:spPr>
          <a:xfrm flipV="1">
            <a:off x="4038480" y="3657240"/>
            <a:ext cx="16002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Line 16"/>
          <p:cNvSpPr/>
          <p:nvPr/>
        </p:nvSpPr>
        <p:spPr>
          <a:xfrm flipH="1" flipV="1">
            <a:off x="4647960" y="2286000"/>
            <a:ext cx="99036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533520" y="6094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3" name="Group 6"/>
          <p:cNvGrpSpPr/>
          <p:nvPr/>
        </p:nvGrpSpPr>
        <p:grpSpPr>
          <a:xfrm>
            <a:off x="4737240" y="1447920"/>
            <a:ext cx="3720960" cy="3720960"/>
            <a:chOff x="4737240" y="1447920"/>
            <a:chExt cx="3720960" cy="3720960"/>
          </a:xfrm>
        </p:grpSpPr>
        <p:sp>
          <p:nvSpPr>
            <p:cNvPr id="954" name="Oval 3"/>
            <p:cNvSpPr/>
            <p:nvPr/>
          </p:nvSpPr>
          <p:spPr>
            <a:xfrm>
              <a:off x="4737240" y="1447920"/>
              <a:ext cx="3720960" cy="37209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Oval 4"/>
            <p:cNvSpPr/>
            <p:nvPr/>
          </p:nvSpPr>
          <p:spPr>
            <a:xfrm>
              <a:off x="6413400" y="3124080"/>
              <a:ext cx="368280" cy="36792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Rectangle 5"/>
            <p:cNvSpPr/>
            <p:nvPr/>
          </p:nvSpPr>
          <p:spPr>
            <a:xfrm>
              <a:off x="6407280" y="304164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 i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dense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sitive pie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c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deflected b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f they get cl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60" name="Group 6"/>
          <p:cNvGrpSpPr/>
          <p:nvPr/>
        </p:nvGrpSpPr>
        <p:grpSpPr>
          <a:xfrm>
            <a:off x="3664080" y="1682640"/>
            <a:ext cx="3720960" cy="3721320"/>
            <a:chOff x="3664080" y="1682640"/>
            <a:chExt cx="3720960" cy="3721320"/>
          </a:xfrm>
        </p:grpSpPr>
        <p:sp>
          <p:nvSpPr>
            <p:cNvPr id="961" name="Oval 3"/>
            <p:cNvSpPr/>
            <p:nvPr/>
          </p:nvSpPr>
          <p:spPr>
            <a:xfrm>
              <a:off x="3664080" y="1682640"/>
              <a:ext cx="3720960" cy="37213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Oval 4"/>
            <p:cNvSpPr/>
            <p:nvPr/>
          </p:nvSpPr>
          <p:spPr>
            <a:xfrm>
              <a:off x="5340240" y="3359160"/>
              <a:ext cx="368280" cy="36828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5334120" y="3276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4" name="Line 7"/>
          <p:cNvSpPr/>
          <p:nvPr/>
        </p:nvSpPr>
        <p:spPr>
          <a:xfrm>
            <a:off x="533520" y="19051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Line 8"/>
          <p:cNvSpPr/>
          <p:nvPr/>
        </p:nvSpPr>
        <p:spPr>
          <a:xfrm>
            <a:off x="533520" y="5638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Line 9"/>
          <p:cNvSpPr/>
          <p:nvPr/>
        </p:nvSpPr>
        <p:spPr>
          <a:xfrm>
            <a:off x="685800" y="3733920"/>
            <a:ext cx="4343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Arc 10"/>
          <p:cNvSpPr/>
          <p:nvPr/>
        </p:nvSpPr>
        <p:spPr>
          <a:xfrm>
            <a:off x="5029200" y="3733920"/>
            <a:ext cx="38088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Line 11"/>
          <p:cNvSpPr/>
          <p:nvPr/>
        </p:nvSpPr>
        <p:spPr>
          <a:xfrm>
            <a:off x="5410080" y="4114800"/>
            <a:ext cx="304920" cy="2286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Line 12"/>
          <p:cNvSpPr/>
          <p:nvPr/>
        </p:nvSpPr>
        <p:spPr>
          <a:xfrm>
            <a:off x="533520" y="2209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Line 13"/>
          <p:cNvSpPr/>
          <p:nvPr/>
        </p:nvSpPr>
        <p:spPr>
          <a:xfrm>
            <a:off x="533520" y="48769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14"/>
          <p:cNvSpPr/>
          <p:nvPr/>
        </p:nvSpPr>
        <p:spPr>
          <a:xfrm>
            <a:off x="533520" y="304812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Arc 15"/>
          <p:cNvSpPr/>
          <p:nvPr/>
        </p:nvSpPr>
        <p:spPr>
          <a:xfrm>
            <a:off x="5105520" y="2971800"/>
            <a:ext cx="83808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16"/>
          <p:cNvSpPr/>
          <p:nvPr/>
        </p:nvSpPr>
        <p:spPr>
          <a:xfrm flipV="1">
            <a:off x="5943600" y="2285640"/>
            <a:ext cx="2743200" cy="685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17"/>
          <p:cNvSpPr/>
          <p:nvPr/>
        </p:nvSpPr>
        <p:spPr>
          <a:xfrm>
            <a:off x="304920" y="2819520"/>
            <a:ext cx="4495680" cy="380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Arc 18"/>
          <p:cNvSpPr/>
          <p:nvPr/>
        </p:nvSpPr>
        <p:spPr>
          <a:xfrm>
            <a:off x="4724280" y="3200400"/>
            <a:ext cx="611280" cy="380880"/>
          </a:xfrm>
          <a:custGeom>
            <a:avLst/>
            <a:gdLst/>
            <a:ahLst/>
            <a:rect l="l" t="t" r="r" b="b"/>
            <a:pathLst>
              <a:path fill="none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</a:path>
              <a:path stroke="0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Line 19"/>
          <p:cNvSpPr/>
          <p:nvPr/>
        </p:nvSpPr>
        <p:spPr>
          <a:xfrm>
            <a:off x="228600" y="358128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0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5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dern 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979" name="Object 3"/>
          <p:cNvGraphicFramePr/>
          <p:nvPr/>
        </p:nvGraphicFramePr>
        <p:xfrm>
          <a:off x="4648320" y="1305000"/>
          <a:ext cx="4114800" cy="46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05000"/>
                    <a:ext cx="411480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m is mostly empty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ctron cloud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gion where you might find an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nsity and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most of the particles went through, it wa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 pieces turned so much, the positive pieces were heav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volume, big mass, big den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mall dense positive area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4" dur="5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5" dur="5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1" dur="5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5" dur="1" fill="hold"/>
                                  <p:tgtEl>
                                    <p:spTgt spid="9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ther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 - positively charged pieces 1840 times heavier than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 - no charge but the same mass as a pro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the pie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7" dur="500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7" dur="1" fill="hold"/>
                                  <p:tgtEl>
                                    <p:spTgt spid="9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Gree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- Famous philoso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stances are made of 4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 - 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-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- cool, he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- w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nd these in different proportions to get all substa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batomic partic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0" name="Rectangle 3"/>
          <p:cNvSpPr/>
          <p:nvPr/>
        </p:nvSpPr>
        <p:spPr>
          <a:xfrm>
            <a:off x="822240" y="2637000"/>
            <a:ext cx="161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Rectangle 4"/>
          <p:cNvSpPr/>
          <p:nvPr/>
        </p:nvSpPr>
        <p:spPr>
          <a:xfrm>
            <a:off x="822240" y="3551400"/>
            <a:ext cx="131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Rectangle 5"/>
          <p:cNvSpPr/>
          <p:nvPr/>
        </p:nvSpPr>
        <p:spPr>
          <a:xfrm>
            <a:off x="822240" y="4427640"/>
            <a:ext cx="157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Rectangle 6"/>
          <p:cNvSpPr/>
          <p:nvPr/>
        </p:nvSpPr>
        <p:spPr>
          <a:xfrm>
            <a:off x="822240" y="1951200"/>
            <a:ext cx="1197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193840" y="1951200"/>
            <a:ext cx="1501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Rectangle 8"/>
          <p:cNvSpPr/>
          <p:nvPr/>
        </p:nvSpPr>
        <p:spPr>
          <a:xfrm>
            <a:off x="3641760" y="1951200"/>
            <a:ext cx="140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4861080" y="1417680"/>
            <a:ext cx="159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Rectangle 10"/>
          <p:cNvSpPr/>
          <p:nvPr/>
        </p:nvSpPr>
        <p:spPr>
          <a:xfrm>
            <a:off x="6583320" y="1371600"/>
            <a:ext cx="175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Rectangle 11"/>
          <p:cNvSpPr/>
          <p:nvPr/>
        </p:nvSpPr>
        <p:spPr>
          <a:xfrm>
            <a:off x="2678040" y="2637000"/>
            <a:ext cx="496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Rectangle 12"/>
          <p:cNvSpPr/>
          <p:nvPr/>
        </p:nvSpPr>
        <p:spPr>
          <a:xfrm>
            <a:off x="2608200" y="3551400"/>
            <a:ext cx="641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Rectangle 13"/>
          <p:cNvSpPr/>
          <p:nvPr/>
        </p:nvSpPr>
        <p:spPr>
          <a:xfrm>
            <a:off x="2638440" y="4427640"/>
            <a:ext cx="57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Rectangle 14"/>
          <p:cNvSpPr/>
          <p:nvPr/>
        </p:nvSpPr>
        <p:spPr>
          <a:xfrm>
            <a:off x="4059360" y="2637000"/>
            <a:ext cx="54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Rectangle 15"/>
          <p:cNvSpPr/>
          <p:nvPr/>
        </p:nvSpPr>
        <p:spPr>
          <a:xfrm>
            <a:off x="4011480" y="3551400"/>
            <a:ext cx="638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Rectangle 16"/>
          <p:cNvSpPr/>
          <p:nvPr/>
        </p:nvSpPr>
        <p:spPr>
          <a:xfrm>
            <a:off x="412596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Rectangle 17"/>
          <p:cNvSpPr/>
          <p:nvPr/>
        </p:nvSpPr>
        <p:spPr>
          <a:xfrm>
            <a:off x="4975200" y="2637000"/>
            <a:ext cx="1360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Rectangle 18"/>
          <p:cNvSpPr/>
          <p:nvPr/>
        </p:nvSpPr>
        <p:spPr>
          <a:xfrm>
            <a:off x="5437080" y="355140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Rectangle 19"/>
          <p:cNvSpPr/>
          <p:nvPr/>
        </p:nvSpPr>
        <p:spPr>
          <a:xfrm>
            <a:off x="543708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Rectangle 20"/>
          <p:cNvSpPr/>
          <p:nvPr/>
        </p:nvSpPr>
        <p:spPr>
          <a:xfrm>
            <a:off x="6346800" y="26370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11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Rectangle 21"/>
          <p:cNvSpPr/>
          <p:nvPr/>
        </p:nvSpPr>
        <p:spPr>
          <a:xfrm>
            <a:off x="6346800" y="35514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Rectangle 22"/>
          <p:cNvSpPr/>
          <p:nvPr/>
        </p:nvSpPr>
        <p:spPr>
          <a:xfrm>
            <a:off x="6346800" y="442764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ucture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the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 cloud- most of the volum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gion where the electron can be f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1" dur="500"/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03" dur="1" fill="hold"/>
                                  <p:tgtEl>
                                    <p:spTgt spid="10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ze of an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picometers,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atom, 32 pm rad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us tiny compared to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atom was the size of a stadium, the nucleus would be the size of a mar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us of the nucleus is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sity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/c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unting the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Numb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rotons determines kind of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as the number of electrons in the neutral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ss Number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protons  +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things with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0" dur="5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0" dur="500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5" dur="500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ton was wr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can have different numbers of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mass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soto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4"/>
          <p:cNvSpPr/>
          <p:nvPr/>
        </p:nvSpPr>
        <p:spPr>
          <a:xfrm>
            <a:off x="4175280" y="2898720"/>
            <a:ext cx="191772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Rectangle 5"/>
          <p:cNvSpPr/>
          <p:nvPr/>
        </p:nvSpPr>
        <p:spPr>
          <a:xfrm>
            <a:off x="2651040" y="274176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Ma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Rectangle 6"/>
          <p:cNvSpPr/>
          <p:nvPr/>
        </p:nvSpPr>
        <p:spPr>
          <a:xfrm>
            <a:off x="2575080" y="472284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tom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ing 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mass number after the name of the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-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nium-2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6994800" y="3017880"/>
            <a:ext cx="1250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Rectangle 6"/>
          <p:cNvSpPr/>
          <p:nvPr/>
        </p:nvSpPr>
        <p:spPr>
          <a:xfrm>
            <a:off x="640080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4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4" dur="500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9" dur="500"/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500"/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00"/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Rectangle 3"/>
          <p:cNvSpPr/>
          <p:nvPr/>
        </p:nvSpPr>
        <p:spPr>
          <a:xfrm>
            <a:off x="685800" y="1295280"/>
            <a:ext cx="5181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Rectangle 4"/>
          <p:cNvSpPr/>
          <p:nvPr/>
        </p:nvSpPr>
        <p:spPr>
          <a:xfrm>
            <a:off x="6994080" y="3017880"/>
            <a:ext cx="109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Rectangle 6"/>
          <p:cNvSpPr/>
          <p:nvPr/>
        </p:nvSpPr>
        <p:spPr>
          <a:xfrm>
            <a:off x="632448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 Was Righ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s settled disagreements by argu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was a better debater - He w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ideas carried through middle 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hemists tried to change lead to g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5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an atomic number of  34 and a mass number of 78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nodeType="clickEffect" fill="hold">
                      <p:stCondLst>
                        <p:cond delay="indefinite"/>
                      </p:stCondLst>
                      <p:childTnLst>
                        <p:par>
                          <p:cTn id="1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91 protons and 140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5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4" dur="500"/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9" dur="500"/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500"/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nodeType="clickEffect" fill="hold">
                      <p:stCondLst>
                        <p:cond delay="indefinite"/>
                      </p:stCondLst>
                      <p:childTnLst>
                        <p:par>
                          <p:cTn id="1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9" dur="500"/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4" dur="500"/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78 electrons and 117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eavy is an atom of oxyg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different kinds of oxy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ncerned with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verag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bundance of each element in n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use grams because the numbers would be too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asuring 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Mass Un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m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twelfth the mass of a carbon-12 ato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6 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isotope has its own atomic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get the average using percent abund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five rocks, four with a mass of 50 g, and one with a mass of 60 g. What is the average mass of the roc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mass =     4 x 50 + 1 x 60 = 260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4"/>
          <p:cNvSpPr/>
          <p:nvPr/>
        </p:nvSpPr>
        <p:spPr>
          <a:xfrm>
            <a:off x="3581280" y="3962520"/>
            <a:ext cx="3048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Line 5"/>
          <p:cNvSpPr/>
          <p:nvPr/>
        </p:nvSpPr>
        <p:spPr>
          <a:xfrm>
            <a:off x="6858000" y="39625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Line 6"/>
          <p:cNvSpPr/>
          <p:nvPr/>
        </p:nvSpPr>
        <p:spPr>
          <a:xfrm>
            <a:off x="38098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Line 7"/>
          <p:cNvSpPr/>
          <p:nvPr/>
        </p:nvSpPr>
        <p:spPr>
          <a:xfrm>
            <a:off x="54100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Line 8"/>
          <p:cNvSpPr/>
          <p:nvPr/>
        </p:nvSpPr>
        <p:spPr>
          <a:xfrm>
            <a:off x="67816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.8 x 50 + .2 x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of the rocks were 5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% of the rocks were 6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=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4"/>
          <p:cNvSpPr/>
          <p:nvPr/>
        </p:nvSpPr>
        <p:spPr>
          <a:xfrm>
            <a:off x="3886200" y="19051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Line 5"/>
          <p:cNvSpPr/>
          <p:nvPr/>
        </p:nvSpPr>
        <p:spPr>
          <a:xfrm>
            <a:off x="5410080" y="19051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Line 6"/>
          <p:cNvSpPr/>
          <p:nvPr/>
        </p:nvSpPr>
        <p:spPr>
          <a:xfrm>
            <a:off x="7010280" y="19051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atomic mass of copper if copper has two isotopes. 69.1% has a mass of 62.93 amu and the rest has a mass of 64.93 am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not told otherwise, the mass of the isotope is the mass number in a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a whole number because it is an avera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decimal numbers on the periodic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’s Nex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1700’s - John Dalton-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- summarized results of his experiments and those of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substances that can’t be broken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alton’s Atom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d idea of elements with that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3" dur="1" fill="hold"/>
                                  <p:tgtEl>
                                    <p:spTgt spid="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lton’s Atomic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made of  tiny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divis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icles called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are identical, those of different atoms are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different elements combine in whole number ratios to form comp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reactions involve the rearrangement of atoms. No new atoms are created or destroy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Definite Proportions (#3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ound has a specific ratio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ratio by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always 8 grams of oxygen for each gram of hydrog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3" dur="1" fill="hold"/>
                                  <p:tgtEl>
                                    <p:spTgt spid="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Multiple Propor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wo elements form more than one compound, the ratio of the second element that combines with 1 gram of the first element in each, is a simple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tio of the ratios is a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9T00:46:42Z</dcterms:created>
  <dc:creator/>
  <dc:description/>
  <cp:keywords/>
  <dc:language>en-US</dc:language>
  <cp:lastModifiedBy>LEGION</cp:lastModifiedBy>
  <dcterms:modified xsi:type="dcterms:W3CDTF">2017-01-26T09:37:31Z</dcterms:modified>
  <cp:revision>28</cp:revision>
  <dc:subject/>
  <dc:title>Chapter 4</dc:title>
</cp:coreProperties>
</file>